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D4E-AC9A-4BB3-A5D7-099A2408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746-567C-4BE1-AFCD-558B5208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2EF-ACFD-4B46-B3C5-0BA11764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CFC-193E-46C5-B5F6-EB305C07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897-5AE0-4A72-9C18-ED7B3EAC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266-6831-4AF8-8434-63E4EB17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319-1B86-419C-AC98-AB6E9110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D29-9C1B-402E-9057-00805959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7F4-AEC3-4A0C-9BB6-FB4124EC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C00-69C4-4BB6-AB15-A417B616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528-FB2A-4AE1-97A9-7CB5B9B4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FF5-0196-4A8E-86E6-F9E85BED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C241-DF23-4601-80F1-AE3F5505C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b 7 Warm-up: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A Day 2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circum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r = 5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d = 13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d = 20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r = 7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63920" y="1571760"/>
            <a:ext cx="4948200" cy="1312560"/>
          </a:xfrm>
          <a:custGeom>
            <a:avLst/>
            <a:gdLst/>
            <a:ahLst/>
            <a:rect l="l" t="t" r="r" b="b"/>
            <a:pathLst>
              <a:path w="13743" h="3647">
                <a:moveTo>
                  <a:pt x="17066" y="4862"/>
                </a:moveTo>
                <a:cubicBezTo>
                  <a:pt x="17108" y="5026"/>
                  <a:pt x="17150" y="5190"/>
                  <a:pt x="17239" y="5333"/>
                </a:cubicBezTo>
              </a:path>
              <a:path w="13743" h="3647">
                <a:moveTo>
                  <a:pt x="18405" y="5308"/>
                </a:moveTo>
                <a:cubicBezTo>
                  <a:pt x="18405" y="5316"/>
                  <a:pt x="18405" y="5325"/>
                  <a:pt x="18405" y="5333"/>
                </a:cubicBezTo>
              </a:path>
              <a:path w="13743" h="3647">
                <a:moveTo>
                  <a:pt x="19199" y="4936"/>
                </a:moveTo>
                <a:cubicBezTo>
                  <a:pt x="19179" y="5021"/>
                  <a:pt x="19083" y="5227"/>
                  <a:pt x="19224" y="5259"/>
                </a:cubicBezTo>
                <a:cubicBezTo>
                  <a:pt x="19371" y="5292"/>
                  <a:pt x="19403" y="5206"/>
                  <a:pt x="19472" y="5110"/>
                </a:cubicBezTo>
              </a:path>
              <a:path w="13743" h="3647">
                <a:moveTo>
                  <a:pt x="20141" y="5209"/>
                </a:moveTo>
                <a:cubicBezTo>
                  <a:pt x="20224" y="5195"/>
                  <a:pt x="20304" y="5168"/>
                  <a:pt x="20389" y="5159"/>
                </a:cubicBezTo>
              </a:path>
              <a:path w="13743" h="3647">
                <a:moveTo>
                  <a:pt x="23366" y="4366"/>
                </a:moveTo>
                <a:lnTo>
                  <a:pt x="23366" y="4366"/>
                </a:lnTo>
              </a:path>
              <a:path w="13743" h="3647">
                <a:moveTo>
                  <a:pt x="9624" y="8012"/>
                </a:moveTo>
                <a:cubicBezTo>
                  <a:pt x="9624" y="8004"/>
                  <a:pt x="9624" y="7995"/>
                  <a:pt x="9624" y="7987"/>
                </a:cubicBezTo>
              </a:path>
              <a:path w="13743" h="3647">
                <a:moveTo>
                  <a:pt x="9624" y="7987"/>
                </a:moveTo>
                <a:lnTo>
                  <a:pt x="9624" y="7987"/>
                </a:lnTo>
              </a:path>
              <a:path w="13743" h="3647">
                <a:moveTo>
                  <a:pt x="9624" y="7987"/>
                </a:moveTo>
                <a:lnTo>
                  <a:pt x="9624" y="798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3920" y="1714680"/>
            <a:ext cx="420840" cy="223560"/>
          </a:xfrm>
          <a:custGeom>
            <a:avLst/>
            <a:gdLst/>
            <a:ahLst/>
            <a:rect l="l" t="t" r="r" b="b"/>
            <a:pathLst>
              <a:path w="1167" h="622">
                <a:moveTo>
                  <a:pt x="16173" y="4812"/>
                </a:moveTo>
                <a:cubicBezTo>
                  <a:pt x="16181" y="4795"/>
                  <a:pt x="16189" y="4779"/>
                  <a:pt x="16197" y="4762"/>
                </a:cubicBezTo>
                <a:cubicBezTo>
                  <a:pt x="16197" y="4936"/>
                  <a:pt x="16177" y="5112"/>
                  <a:pt x="16148" y="5283"/>
                </a:cubicBezTo>
                <a:cubicBezTo>
                  <a:pt x="16129" y="5358"/>
                  <a:pt x="16121" y="5417"/>
                  <a:pt x="16123" y="5358"/>
                </a:cubicBezTo>
              </a:path>
              <a:path w="1167" h="622">
                <a:moveTo>
                  <a:pt x="16594" y="4762"/>
                </a:moveTo>
                <a:cubicBezTo>
                  <a:pt x="16412" y="4946"/>
                  <a:pt x="16390" y="5103"/>
                  <a:pt x="16371" y="5358"/>
                </a:cubicBezTo>
                <a:cubicBezTo>
                  <a:pt x="16622" y="5358"/>
                  <a:pt x="16793" y="5233"/>
                  <a:pt x="16718" y="4936"/>
                </a:cubicBezTo>
                <a:cubicBezTo>
                  <a:pt x="16654" y="4850"/>
                  <a:pt x="16646" y="4817"/>
                  <a:pt x="16570" y="4837"/>
                </a:cubicBezTo>
              </a:path>
              <a:path w="1167" h="622">
                <a:moveTo>
                  <a:pt x="17289" y="4837"/>
                </a:moveTo>
                <a:cubicBezTo>
                  <a:pt x="17240" y="4899"/>
                  <a:pt x="16908" y="5309"/>
                  <a:pt x="16942" y="5383"/>
                </a:cubicBezTo>
                <a:cubicBezTo>
                  <a:pt x="16967" y="5375"/>
                  <a:pt x="16991" y="5366"/>
                  <a:pt x="17016" y="53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48240" y="1758960"/>
            <a:ext cx="162000" cy="206280"/>
          </a:xfrm>
          <a:custGeom>
            <a:avLst/>
            <a:gdLst/>
            <a:ahLst/>
            <a:rect l="l" t="t" r="r" b="b"/>
            <a:pathLst>
              <a:path w="448" h="571">
                <a:moveTo>
                  <a:pt x="17636" y="4986"/>
                </a:moveTo>
                <a:cubicBezTo>
                  <a:pt x="17750" y="4963"/>
                  <a:pt x="17860" y="4887"/>
                  <a:pt x="17983" y="4887"/>
                </a:cubicBezTo>
                <a:cubicBezTo>
                  <a:pt x="18177" y="4886"/>
                  <a:pt x="17882" y="5119"/>
                  <a:pt x="17859" y="5135"/>
                </a:cubicBezTo>
                <a:cubicBezTo>
                  <a:pt x="17851" y="5143"/>
                  <a:pt x="17843" y="5151"/>
                  <a:pt x="17835" y="5159"/>
                </a:cubicBezTo>
                <a:cubicBezTo>
                  <a:pt x="17952" y="5143"/>
                  <a:pt x="18073" y="5089"/>
                  <a:pt x="18083" y="5259"/>
                </a:cubicBezTo>
                <a:cubicBezTo>
                  <a:pt x="18091" y="5401"/>
                  <a:pt x="17816" y="5535"/>
                  <a:pt x="17711" y="5432"/>
                </a:cubicBezTo>
                <a:cubicBezTo>
                  <a:pt x="17719" y="5416"/>
                  <a:pt x="17727" y="5399"/>
                  <a:pt x="17735" y="53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77000" y="1751040"/>
            <a:ext cx="9720" cy="195120"/>
          </a:xfrm>
          <a:custGeom>
            <a:avLst/>
            <a:gdLst/>
            <a:ahLst/>
            <a:rect l="l" t="t" r="r" b="b"/>
            <a:pathLst>
              <a:path w="26" h="546">
                <a:moveTo>
                  <a:pt x="18852" y="4862"/>
                </a:moveTo>
                <a:cubicBezTo>
                  <a:pt x="18852" y="5044"/>
                  <a:pt x="18645" y="5405"/>
                  <a:pt x="18827" y="5407"/>
                </a:cubicBezTo>
                <a:cubicBezTo>
                  <a:pt x="18835" y="5382"/>
                  <a:pt x="18844" y="5358"/>
                  <a:pt x="18852" y="53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56280" y="1714680"/>
            <a:ext cx="44640" cy="277560"/>
          </a:xfrm>
          <a:custGeom>
            <a:avLst/>
            <a:gdLst/>
            <a:ahLst/>
            <a:rect l="l" t="t" r="r" b="b"/>
            <a:pathLst>
              <a:path w="125" h="770">
                <a:moveTo>
                  <a:pt x="19447" y="4762"/>
                </a:moveTo>
                <a:cubicBezTo>
                  <a:pt x="19411" y="4994"/>
                  <a:pt x="19353" y="5225"/>
                  <a:pt x="19323" y="5457"/>
                </a:cubicBezTo>
                <a:cubicBezTo>
                  <a:pt x="19323" y="5551"/>
                  <a:pt x="19341" y="5568"/>
                  <a:pt x="19447" y="54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7840" y="1928880"/>
            <a:ext cx="71280" cy="1440"/>
          </a:xfrm>
          <a:custGeom>
            <a:avLst/>
            <a:gdLst/>
            <a:ahLst/>
            <a:rect l="l" t="t" r="r" b="b"/>
            <a:pathLst>
              <a:path w="199" h="1">
                <a:moveTo>
                  <a:pt x="19993" y="5358"/>
                </a:moveTo>
                <a:cubicBezTo>
                  <a:pt x="20075" y="5358"/>
                  <a:pt x="20125" y="5358"/>
                  <a:pt x="20191" y="53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16880" y="1660680"/>
            <a:ext cx="268200" cy="241200"/>
          </a:xfrm>
          <a:custGeom>
            <a:avLst/>
            <a:gdLst/>
            <a:ahLst/>
            <a:rect l="l" t="t" r="r" b="b"/>
            <a:pathLst>
              <a:path w="746" h="670">
                <a:moveTo>
                  <a:pt x="21258" y="4762"/>
                </a:moveTo>
                <a:cubicBezTo>
                  <a:pt x="21333" y="4743"/>
                  <a:pt x="21424" y="4669"/>
                  <a:pt x="21506" y="4663"/>
                </a:cubicBezTo>
                <a:cubicBezTo>
                  <a:pt x="21522" y="4671"/>
                  <a:pt x="21539" y="4680"/>
                  <a:pt x="21555" y="4688"/>
                </a:cubicBezTo>
                <a:cubicBezTo>
                  <a:pt x="21532" y="4838"/>
                  <a:pt x="21485" y="4896"/>
                  <a:pt x="21357" y="4986"/>
                </a:cubicBezTo>
                <a:cubicBezTo>
                  <a:pt x="21444" y="4986"/>
                  <a:pt x="21521" y="5022"/>
                  <a:pt x="21555" y="5110"/>
                </a:cubicBezTo>
                <a:cubicBezTo>
                  <a:pt x="21630" y="5306"/>
                  <a:pt x="21269" y="5259"/>
                  <a:pt x="21183" y="5259"/>
                </a:cubicBezTo>
                <a:cubicBezTo>
                  <a:pt x="21146" y="5203"/>
                  <a:pt x="21256" y="5248"/>
                  <a:pt x="21307" y="5259"/>
                </a:cubicBezTo>
                <a:cubicBezTo>
                  <a:pt x="21373" y="5280"/>
                  <a:pt x="21388" y="5288"/>
                  <a:pt x="21431" y="5283"/>
                </a:cubicBezTo>
              </a:path>
              <a:path w="746" h="670">
                <a:moveTo>
                  <a:pt x="21903" y="4614"/>
                </a:moveTo>
                <a:cubicBezTo>
                  <a:pt x="21903" y="4764"/>
                  <a:pt x="21881" y="4910"/>
                  <a:pt x="21878" y="5060"/>
                </a:cubicBezTo>
                <a:cubicBezTo>
                  <a:pt x="21878" y="5151"/>
                  <a:pt x="21878" y="5159"/>
                  <a:pt x="21878" y="52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18640" y="1820880"/>
            <a:ext cx="144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22275" y="5060"/>
                </a:moveTo>
                <a:cubicBezTo>
                  <a:pt x="22275" y="5085"/>
                  <a:pt x="22275" y="5093"/>
                  <a:pt x="22275" y="51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16920" y="1581120"/>
            <a:ext cx="473040" cy="303120"/>
          </a:xfrm>
          <a:custGeom>
            <a:avLst/>
            <a:gdLst/>
            <a:ahLst/>
            <a:rect l="l" t="t" r="r" b="b"/>
            <a:pathLst>
              <a:path w="1316" h="845">
                <a:moveTo>
                  <a:pt x="22597" y="4589"/>
                </a:moveTo>
                <a:cubicBezTo>
                  <a:pt x="22597" y="4510"/>
                  <a:pt x="22559" y="4684"/>
                  <a:pt x="22547" y="4762"/>
                </a:cubicBezTo>
                <a:cubicBezTo>
                  <a:pt x="22533" y="4850"/>
                  <a:pt x="22610" y="4890"/>
                  <a:pt x="22696" y="4887"/>
                </a:cubicBezTo>
                <a:cubicBezTo>
                  <a:pt x="22750" y="4885"/>
                  <a:pt x="22792" y="4862"/>
                  <a:pt x="22845" y="4862"/>
                </a:cubicBezTo>
              </a:path>
              <a:path w="1316" h="845">
                <a:moveTo>
                  <a:pt x="22895" y="4390"/>
                </a:moveTo>
                <a:cubicBezTo>
                  <a:pt x="22895" y="4587"/>
                  <a:pt x="22848" y="4791"/>
                  <a:pt x="22820" y="4986"/>
                </a:cubicBezTo>
                <a:cubicBezTo>
                  <a:pt x="22799" y="5119"/>
                  <a:pt x="22795" y="5153"/>
                  <a:pt x="22771" y="5234"/>
                </a:cubicBezTo>
              </a:path>
              <a:path w="1316" h="845">
                <a:moveTo>
                  <a:pt x="23242" y="4812"/>
                </a:moveTo>
                <a:cubicBezTo>
                  <a:pt x="23242" y="4928"/>
                  <a:pt x="23242" y="5043"/>
                  <a:pt x="23242" y="5159"/>
                </a:cubicBezTo>
                <a:cubicBezTo>
                  <a:pt x="23364" y="5196"/>
                  <a:pt x="23387" y="5175"/>
                  <a:pt x="23515" y="5135"/>
                </a:cubicBezTo>
              </a:path>
              <a:path w="1316" h="845">
                <a:moveTo>
                  <a:pt x="23664" y="4911"/>
                </a:moveTo>
                <a:cubicBezTo>
                  <a:pt x="23629" y="4972"/>
                  <a:pt x="23611" y="5040"/>
                  <a:pt x="23589" y="5110"/>
                </a:cubicBezTo>
                <a:cubicBezTo>
                  <a:pt x="23589" y="5013"/>
                  <a:pt x="23637" y="4901"/>
                  <a:pt x="23713" y="4837"/>
                </a:cubicBezTo>
                <a:cubicBezTo>
                  <a:pt x="23738" y="4829"/>
                  <a:pt x="23763" y="4820"/>
                  <a:pt x="23788" y="4812"/>
                </a:cubicBezTo>
                <a:cubicBezTo>
                  <a:pt x="23863" y="4918"/>
                  <a:pt x="23862" y="4982"/>
                  <a:pt x="23862" y="5110"/>
                </a:cubicBezTo>
                <a:cubicBezTo>
                  <a:pt x="23862" y="5151"/>
                  <a:pt x="23862" y="5175"/>
                  <a:pt x="23862" y="51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81360" y="1731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725" y="4812"/>
                </a:moveTo>
                <a:lnTo>
                  <a:pt x="12725" y="4812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60800" y="1795320"/>
            <a:ext cx="536400" cy="276480"/>
          </a:xfrm>
          <a:custGeom>
            <a:avLst/>
            <a:gdLst/>
            <a:ahLst/>
            <a:rect l="l" t="t" r="r" b="b"/>
            <a:pathLst>
              <a:path w="1489" h="770">
                <a:moveTo>
                  <a:pt x="9203" y="5060"/>
                </a:moveTo>
                <a:cubicBezTo>
                  <a:pt x="9127" y="5060"/>
                  <a:pt x="9073" y="5043"/>
                  <a:pt x="9004" y="5011"/>
                </a:cubicBezTo>
                <a:cubicBezTo>
                  <a:pt x="8964" y="4991"/>
                  <a:pt x="8957" y="4982"/>
                  <a:pt x="8930" y="4986"/>
                </a:cubicBezTo>
                <a:cubicBezTo>
                  <a:pt x="8887" y="5084"/>
                  <a:pt x="8848" y="5177"/>
                  <a:pt x="8830" y="5283"/>
                </a:cubicBezTo>
                <a:cubicBezTo>
                  <a:pt x="8910" y="5283"/>
                  <a:pt x="9093" y="5246"/>
                  <a:pt x="9153" y="5308"/>
                </a:cubicBezTo>
                <a:cubicBezTo>
                  <a:pt x="9335" y="5497"/>
                  <a:pt x="9079" y="5679"/>
                  <a:pt x="8930" y="5730"/>
                </a:cubicBezTo>
                <a:cubicBezTo>
                  <a:pt x="8829" y="5750"/>
                  <a:pt x="8798" y="5780"/>
                  <a:pt x="8781" y="5705"/>
                </a:cubicBezTo>
              </a:path>
              <a:path w="1489" h="770">
                <a:moveTo>
                  <a:pt x="9351" y="5135"/>
                </a:moveTo>
                <a:cubicBezTo>
                  <a:pt x="9399" y="5245"/>
                  <a:pt x="9469" y="5367"/>
                  <a:pt x="9525" y="5482"/>
                </a:cubicBezTo>
                <a:cubicBezTo>
                  <a:pt x="9533" y="5498"/>
                  <a:pt x="9542" y="5515"/>
                  <a:pt x="9550" y="5531"/>
                </a:cubicBezTo>
              </a:path>
              <a:path w="1489" h="770">
                <a:moveTo>
                  <a:pt x="9649" y="5060"/>
                </a:moveTo>
                <a:cubicBezTo>
                  <a:pt x="9542" y="5249"/>
                  <a:pt x="9434" y="5446"/>
                  <a:pt x="9376" y="5655"/>
                </a:cubicBezTo>
                <a:cubicBezTo>
                  <a:pt x="9376" y="5672"/>
                  <a:pt x="9376" y="5688"/>
                  <a:pt x="9376" y="5705"/>
                </a:cubicBezTo>
              </a:path>
              <a:path w="1489" h="770">
                <a:moveTo>
                  <a:pt x="9823" y="5085"/>
                </a:moveTo>
                <a:cubicBezTo>
                  <a:pt x="9947" y="5058"/>
                  <a:pt x="10033" y="5046"/>
                  <a:pt x="10145" y="5110"/>
                </a:cubicBezTo>
                <a:cubicBezTo>
                  <a:pt x="10075" y="5301"/>
                  <a:pt x="9992" y="5413"/>
                  <a:pt x="9847" y="5556"/>
                </a:cubicBezTo>
                <a:cubicBezTo>
                  <a:pt x="9989" y="5546"/>
                  <a:pt x="10126" y="5507"/>
                  <a:pt x="10269" y="55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874880"/>
            <a:ext cx="107640" cy="90360"/>
          </a:xfrm>
          <a:custGeom>
            <a:avLst/>
            <a:gdLst/>
            <a:ahLst/>
            <a:rect l="l" t="t" r="r" b="b"/>
            <a:pathLst>
              <a:path w="298" h="249">
                <a:moveTo>
                  <a:pt x="10740" y="5234"/>
                </a:moveTo>
                <a:cubicBezTo>
                  <a:pt x="10835" y="5234"/>
                  <a:pt x="10919" y="5221"/>
                  <a:pt x="11013" y="5209"/>
                </a:cubicBezTo>
              </a:path>
              <a:path w="298" h="249">
                <a:moveTo>
                  <a:pt x="10716" y="5457"/>
                </a:moveTo>
                <a:cubicBezTo>
                  <a:pt x="10864" y="5432"/>
                  <a:pt x="10914" y="5424"/>
                  <a:pt x="11013" y="54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7240" y="1758960"/>
            <a:ext cx="598680" cy="260280"/>
          </a:xfrm>
          <a:custGeom>
            <a:avLst/>
            <a:gdLst/>
            <a:ahLst/>
            <a:rect l="l" t="t" r="r" b="b"/>
            <a:pathLst>
              <a:path w="1663" h="720">
                <a:moveTo>
                  <a:pt x="11757" y="4961"/>
                </a:moveTo>
                <a:cubicBezTo>
                  <a:pt x="11731" y="5142"/>
                  <a:pt x="11685" y="5324"/>
                  <a:pt x="11658" y="5507"/>
                </a:cubicBezTo>
                <a:cubicBezTo>
                  <a:pt x="11658" y="5515"/>
                  <a:pt x="11658" y="5523"/>
                  <a:pt x="11658" y="5531"/>
                </a:cubicBezTo>
              </a:path>
              <a:path w="1663" h="720">
                <a:moveTo>
                  <a:pt x="12254" y="4887"/>
                </a:moveTo>
                <a:cubicBezTo>
                  <a:pt x="12141" y="5046"/>
                  <a:pt x="11959" y="5319"/>
                  <a:pt x="12055" y="5531"/>
                </a:cubicBezTo>
                <a:cubicBezTo>
                  <a:pt x="12088" y="5556"/>
                  <a:pt x="12121" y="5581"/>
                  <a:pt x="12154" y="5606"/>
                </a:cubicBezTo>
                <a:cubicBezTo>
                  <a:pt x="12393" y="5462"/>
                  <a:pt x="12474" y="5331"/>
                  <a:pt x="12402" y="5035"/>
                </a:cubicBezTo>
                <a:cubicBezTo>
                  <a:pt x="12366" y="4962"/>
                  <a:pt x="12378" y="4929"/>
                  <a:pt x="12328" y="4936"/>
                </a:cubicBezTo>
              </a:path>
              <a:path w="1663" h="720">
                <a:moveTo>
                  <a:pt x="12725" y="5085"/>
                </a:moveTo>
                <a:cubicBezTo>
                  <a:pt x="12673" y="5120"/>
                  <a:pt x="12626" y="5325"/>
                  <a:pt x="12626" y="5407"/>
                </a:cubicBezTo>
                <a:cubicBezTo>
                  <a:pt x="12626" y="5702"/>
                  <a:pt x="12853" y="5403"/>
                  <a:pt x="12923" y="5333"/>
                </a:cubicBezTo>
              </a:path>
              <a:path w="1663" h="720">
                <a:moveTo>
                  <a:pt x="13022" y="5184"/>
                </a:moveTo>
                <a:cubicBezTo>
                  <a:pt x="13001" y="5286"/>
                  <a:pt x="12998" y="5376"/>
                  <a:pt x="12998" y="5482"/>
                </a:cubicBezTo>
                <a:cubicBezTo>
                  <a:pt x="13060" y="5355"/>
                  <a:pt x="13068" y="5263"/>
                  <a:pt x="13171" y="5159"/>
                </a:cubicBezTo>
                <a:cubicBezTo>
                  <a:pt x="13311" y="5248"/>
                  <a:pt x="13310" y="5338"/>
                  <a:pt x="13320" y="55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6040" y="2660760"/>
            <a:ext cx="2197080" cy="376200"/>
          </a:xfrm>
          <a:custGeom>
            <a:avLst/>
            <a:gdLst/>
            <a:ahLst/>
            <a:rect l="l" t="t" r="r" b="b"/>
            <a:pathLst>
              <a:path w="6103" h="1043">
                <a:moveTo>
                  <a:pt x="11063" y="7838"/>
                </a:moveTo>
                <a:cubicBezTo>
                  <a:pt x="11054" y="8041"/>
                  <a:pt x="11030" y="8235"/>
                  <a:pt x="10988" y="8434"/>
                </a:cubicBezTo>
              </a:path>
              <a:path w="6103" h="1043">
                <a:moveTo>
                  <a:pt x="13568" y="8012"/>
                </a:moveTo>
                <a:cubicBezTo>
                  <a:pt x="13683" y="7981"/>
                  <a:pt x="13798" y="7960"/>
                  <a:pt x="13915" y="7938"/>
                </a:cubicBezTo>
              </a:path>
              <a:path w="6103" h="1043">
                <a:moveTo>
                  <a:pt x="13841" y="8136"/>
                </a:moveTo>
                <a:lnTo>
                  <a:pt x="13841" y="8136"/>
                </a:lnTo>
              </a:path>
              <a:path w="6103" h="1043">
                <a:moveTo>
                  <a:pt x="16346" y="7392"/>
                </a:moveTo>
                <a:cubicBezTo>
                  <a:pt x="16242" y="7704"/>
                  <a:pt x="16185" y="8017"/>
                  <a:pt x="16024" y="8310"/>
                </a:cubicBezTo>
                <a:cubicBezTo>
                  <a:pt x="16007" y="8326"/>
                  <a:pt x="15991" y="8343"/>
                  <a:pt x="15974" y="8359"/>
                </a:cubicBezTo>
              </a:path>
              <a:path w="6103" h="1043">
                <a:moveTo>
                  <a:pt x="17041" y="8161"/>
                </a:moveTo>
                <a:cubicBezTo>
                  <a:pt x="17057" y="8169"/>
                  <a:pt x="17074" y="8178"/>
                  <a:pt x="17090" y="8186"/>
                </a:cubicBezTo>
              </a:path>
              <a:path w="6103" h="1043">
                <a:moveTo>
                  <a:pt x="17090" y="8186"/>
                </a:moveTo>
                <a:lnTo>
                  <a:pt x="17090" y="8186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1360" y="2857680"/>
            <a:ext cx="581040" cy="196560"/>
          </a:xfrm>
          <a:custGeom>
            <a:avLst/>
            <a:gdLst/>
            <a:ahLst/>
            <a:rect l="l" t="t" r="r" b="b"/>
            <a:pathLst>
              <a:path w="1614" h="546">
                <a:moveTo>
                  <a:pt x="9699" y="7962"/>
                </a:moveTo>
                <a:cubicBezTo>
                  <a:pt x="9760" y="7970"/>
                  <a:pt x="9868" y="7986"/>
                  <a:pt x="9823" y="8086"/>
                </a:cubicBezTo>
                <a:cubicBezTo>
                  <a:pt x="9787" y="8166"/>
                  <a:pt x="9647" y="8177"/>
                  <a:pt x="9699" y="8186"/>
                </a:cubicBezTo>
                <a:cubicBezTo>
                  <a:pt x="9861" y="8214"/>
                  <a:pt x="9846" y="8372"/>
                  <a:pt x="9723" y="8458"/>
                </a:cubicBezTo>
                <a:cubicBezTo>
                  <a:pt x="9685" y="8485"/>
                  <a:pt x="9448" y="8490"/>
                  <a:pt x="9475" y="8409"/>
                </a:cubicBezTo>
                <a:cubicBezTo>
                  <a:pt x="9483" y="8401"/>
                  <a:pt x="9492" y="8392"/>
                  <a:pt x="9500" y="8384"/>
                </a:cubicBezTo>
              </a:path>
              <a:path w="1614" h="546">
                <a:moveTo>
                  <a:pt x="10096" y="8161"/>
                </a:moveTo>
                <a:cubicBezTo>
                  <a:pt x="10121" y="8161"/>
                  <a:pt x="10145" y="8161"/>
                  <a:pt x="10170" y="8161"/>
                </a:cubicBezTo>
              </a:path>
              <a:path w="1614" h="546">
                <a:moveTo>
                  <a:pt x="10517" y="7938"/>
                </a:moveTo>
                <a:cubicBezTo>
                  <a:pt x="10517" y="8089"/>
                  <a:pt x="10498" y="8233"/>
                  <a:pt x="10492" y="8384"/>
                </a:cubicBezTo>
                <a:cubicBezTo>
                  <a:pt x="10492" y="8412"/>
                  <a:pt x="10494" y="8423"/>
                  <a:pt x="10517" y="8434"/>
                </a:cubicBezTo>
              </a:path>
              <a:path w="1614" h="546">
                <a:moveTo>
                  <a:pt x="10815" y="8012"/>
                </a:moveTo>
                <a:cubicBezTo>
                  <a:pt x="10815" y="8068"/>
                  <a:pt x="10780" y="8213"/>
                  <a:pt x="10864" y="8235"/>
                </a:cubicBezTo>
                <a:cubicBezTo>
                  <a:pt x="10979" y="8235"/>
                  <a:pt x="11025" y="8227"/>
                  <a:pt x="11088" y="8161"/>
                </a:cubicBezTo>
              </a:path>
              <a:path w="1614" h="546">
                <a:moveTo>
                  <a:pt x="10096" y="8210"/>
                </a:moveTo>
                <a:cubicBezTo>
                  <a:pt x="10054" y="8231"/>
                  <a:pt x="10046" y="8260"/>
                  <a:pt x="10021" y="8310"/>
                </a:cubicBezTo>
                <a:cubicBezTo>
                  <a:pt x="10085" y="8183"/>
                  <a:pt x="10014" y="8188"/>
                  <a:pt x="10021" y="8285"/>
                </a:cubicBezTo>
                <a:cubicBezTo>
                  <a:pt x="10027" y="8368"/>
                  <a:pt x="10138" y="8279"/>
                  <a:pt x="10145" y="8235"/>
                </a:cubicBezTo>
                <a:cubicBezTo>
                  <a:pt x="10145" y="8227"/>
                  <a:pt x="10145" y="8218"/>
                  <a:pt x="10145" y="8210"/>
                </a:cubicBezTo>
                <a:cubicBezTo>
                  <a:pt x="9941" y="8269"/>
                  <a:pt x="10226" y="8266"/>
                  <a:pt x="10294" y="82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60880" y="2911320"/>
            <a:ext cx="108000" cy="169920"/>
          </a:xfrm>
          <a:custGeom>
            <a:avLst/>
            <a:gdLst/>
            <a:ahLst/>
            <a:rect l="l" t="t" r="r" b="b"/>
            <a:pathLst>
              <a:path w="299" h="473">
                <a:moveTo>
                  <a:pt x="11584" y="8136"/>
                </a:moveTo>
                <a:cubicBezTo>
                  <a:pt x="11667" y="8253"/>
                  <a:pt x="11717" y="8636"/>
                  <a:pt x="11782" y="8508"/>
                </a:cubicBezTo>
                <a:cubicBezTo>
                  <a:pt x="11790" y="8475"/>
                  <a:pt x="11799" y="8442"/>
                  <a:pt x="11807" y="8409"/>
                </a:cubicBezTo>
              </a:path>
              <a:path w="299" h="473">
                <a:moveTo>
                  <a:pt x="11857" y="8086"/>
                </a:moveTo>
                <a:cubicBezTo>
                  <a:pt x="11774" y="8199"/>
                  <a:pt x="11582" y="8564"/>
                  <a:pt x="11584" y="85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830680"/>
            <a:ext cx="268200" cy="214200"/>
          </a:xfrm>
          <a:custGeom>
            <a:avLst/>
            <a:gdLst/>
            <a:ahLst/>
            <a:rect l="l" t="t" r="r" b="b"/>
            <a:pathLst>
              <a:path w="745" h="596">
                <a:moveTo>
                  <a:pt x="12328" y="8086"/>
                </a:moveTo>
                <a:cubicBezTo>
                  <a:pt x="12310" y="8217"/>
                  <a:pt x="12281" y="8338"/>
                  <a:pt x="12303" y="8458"/>
                </a:cubicBezTo>
              </a:path>
              <a:path w="745" h="596">
                <a:moveTo>
                  <a:pt x="12650" y="7863"/>
                </a:moveTo>
                <a:cubicBezTo>
                  <a:pt x="12712" y="7863"/>
                  <a:pt x="12952" y="7841"/>
                  <a:pt x="12973" y="7913"/>
                </a:cubicBezTo>
                <a:cubicBezTo>
                  <a:pt x="13005" y="8023"/>
                  <a:pt x="12650" y="8228"/>
                  <a:pt x="12824" y="8086"/>
                </a:cubicBezTo>
                <a:cubicBezTo>
                  <a:pt x="13014" y="8160"/>
                  <a:pt x="13137" y="8317"/>
                  <a:pt x="12849" y="8434"/>
                </a:cubicBezTo>
                <a:cubicBezTo>
                  <a:pt x="12692" y="8456"/>
                  <a:pt x="12648" y="8474"/>
                  <a:pt x="12576" y="83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7840" y="2928960"/>
            <a:ext cx="125280" cy="1440"/>
          </a:xfrm>
          <a:custGeom>
            <a:avLst/>
            <a:gdLst/>
            <a:ahLst/>
            <a:rect l="l" t="t" r="r" b="b"/>
            <a:pathLst>
              <a:path w="348" h="1">
                <a:moveTo>
                  <a:pt x="13494" y="8136"/>
                </a:moveTo>
                <a:cubicBezTo>
                  <a:pt x="13659" y="8136"/>
                  <a:pt x="13725" y="8136"/>
                  <a:pt x="13841" y="81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34000" y="2714760"/>
            <a:ext cx="411120" cy="268200"/>
          </a:xfrm>
          <a:custGeom>
            <a:avLst/>
            <a:gdLst/>
            <a:ahLst/>
            <a:rect l="l" t="t" r="r" b="b"/>
            <a:pathLst>
              <a:path w="1142" h="745">
                <a:moveTo>
                  <a:pt x="15850" y="7813"/>
                </a:moveTo>
                <a:cubicBezTo>
                  <a:pt x="15846" y="7819"/>
                  <a:pt x="15652" y="8058"/>
                  <a:pt x="15652" y="8012"/>
                </a:cubicBezTo>
                <a:cubicBezTo>
                  <a:pt x="15660" y="8004"/>
                  <a:pt x="15669" y="7995"/>
                  <a:pt x="15677" y="7987"/>
                </a:cubicBezTo>
                <a:cubicBezTo>
                  <a:pt x="15804" y="8022"/>
                  <a:pt x="16075" y="8178"/>
                  <a:pt x="16197" y="8086"/>
                </a:cubicBezTo>
                <a:cubicBezTo>
                  <a:pt x="16230" y="8037"/>
                  <a:pt x="16264" y="7987"/>
                  <a:pt x="16297" y="7938"/>
                </a:cubicBezTo>
              </a:path>
              <a:path w="1142" h="745">
                <a:moveTo>
                  <a:pt x="16669" y="7640"/>
                </a:moveTo>
                <a:cubicBezTo>
                  <a:pt x="16529" y="7761"/>
                  <a:pt x="16351" y="8026"/>
                  <a:pt x="16346" y="8235"/>
                </a:cubicBezTo>
                <a:cubicBezTo>
                  <a:pt x="16363" y="8252"/>
                  <a:pt x="16379" y="8268"/>
                  <a:pt x="16396" y="8285"/>
                </a:cubicBezTo>
                <a:cubicBezTo>
                  <a:pt x="16608" y="8151"/>
                  <a:pt x="16908" y="7930"/>
                  <a:pt x="16768" y="7615"/>
                </a:cubicBezTo>
                <a:cubicBezTo>
                  <a:pt x="16695" y="7561"/>
                  <a:pt x="16695" y="7536"/>
                  <a:pt x="16644" y="75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48240" y="2705040"/>
            <a:ext cx="447840" cy="243000"/>
          </a:xfrm>
          <a:custGeom>
            <a:avLst/>
            <a:gdLst/>
            <a:ahLst/>
            <a:rect l="l" t="t" r="r" b="b"/>
            <a:pathLst>
              <a:path w="1241" h="671">
                <a:moveTo>
                  <a:pt x="17934" y="7541"/>
                </a:moveTo>
                <a:cubicBezTo>
                  <a:pt x="17798" y="7563"/>
                  <a:pt x="17760" y="7565"/>
                  <a:pt x="17686" y="7615"/>
                </a:cubicBezTo>
                <a:cubicBezTo>
                  <a:pt x="17693" y="7720"/>
                  <a:pt x="17928" y="7991"/>
                  <a:pt x="17884" y="8086"/>
                </a:cubicBezTo>
                <a:cubicBezTo>
                  <a:pt x="17781" y="8138"/>
                  <a:pt x="17744" y="8155"/>
                  <a:pt x="17661" y="8136"/>
                </a:cubicBezTo>
                <a:cubicBezTo>
                  <a:pt x="17706" y="7885"/>
                  <a:pt x="17853" y="7801"/>
                  <a:pt x="18083" y="7640"/>
                </a:cubicBezTo>
              </a:path>
              <a:path w="1241" h="671">
                <a:moveTo>
                  <a:pt x="18628" y="7541"/>
                </a:moveTo>
                <a:cubicBezTo>
                  <a:pt x="18660" y="7632"/>
                  <a:pt x="18745" y="7422"/>
                  <a:pt x="18827" y="7590"/>
                </a:cubicBezTo>
                <a:cubicBezTo>
                  <a:pt x="18975" y="7895"/>
                  <a:pt x="18667" y="8203"/>
                  <a:pt x="18355" y="8161"/>
                </a:cubicBezTo>
                <a:cubicBezTo>
                  <a:pt x="18339" y="8136"/>
                  <a:pt x="18322" y="8111"/>
                  <a:pt x="18306" y="8086"/>
                </a:cubicBezTo>
                <a:cubicBezTo>
                  <a:pt x="18537" y="7954"/>
                  <a:pt x="18595" y="7947"/>
                  <a:pt x="18728" y="81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62840" y="2786040"/>
            <a:ext cx="482400" cy="169920"/>
          </a:xfrm>
          <a:custGeom>
            <a:avLst/>
            <a:gdLst/>
            <a:ahLst/>
            <a:rect l="l" t="t" r="r" b="b"/>
            <a:pathLst>
              <a:path w="1340" h="472">
                <a:moveTo>
                  <a:pt x="19893" y="7838"/>
                </a:moveTo>
                <a:cubicBezTo>
                  <a:pt x="19856" y="7800"/>
                  <a:pt x="19874" y="7792"/>
                  <a:pt x="19869" y="7739"/>
                </a:cubicBezTo>
                <a:cubicBezTo>
                  <a:pt x="19700" y="7884"/>
                  <a:pt x="19656" y="7907"/>
                  <a:pt x="19645" y="8136"/>
                </a:cubicBezTo>
                <a:cubicBezTo>
                  <a:pt x="19930" y="8186"/>
                  <a:pt x="20061" y="8096"/>
                  <a:pt x="20290" y="7913"/>
                </a:cubicBezTo>
                <a:cubicBezTo>
                  <a:pt x="20358" y="7859"/>
                  <a:pt x="20252" y="8120"/>
                  <a:pt x="20241" y="8161"/>
                </a:cubicBezTo>
                <a:cubicBezTo>
                  <a:pt x="20233" y="8177"/>
                  <a:pt x="20224" y="8194"/>
                  <a:pt x="20216" y="8210"/>
                </a:cubicBezTo>
                <a:cubicBezTo>
                  <a:pt x="20261" y="8134"/>
                  <a:pt x="20396" y="7826"/>
                  <a:pt x="20538" y="7913"/>
                </a:cubicBezTo>
                <a:cubicBezTo>
                  <a:pt x="20587" y="8009"/>
                  <a:pt x="20603" y="8040"/>
                  <a:pt x="20613" y="8111"/>
                </a:cubicBezTo>
                <a:cubicBezTo>
                  <a:pt x="20692" y="7967"/>
                  <a:pt x="20703" y="7910"/>
                  <a:pt x="20861" y="7888"/>
                </a:cubicBezTo>
                <a:cubicBezTo>
                  <a:pt x="20852" y="8070"/>
                  <a:pt x="20782" y="8115"/>
                  <a:pt x="20910" y="8136"/>
                </a:cubicBezTo>
                <a:cubicBezTo>
                  <a:pt x="20927" y="8136"/>
                  <a:pt x="20943" y="8136"/>
                  <a:pt x="20960" y="81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46720" y="3929040"/>
            <a:ext cx="2536560" cy="384120"/>
          </a:xfrm>
          <a:custGeom>
            <a:avLst/>
            <a:gdLst/>
            <a:ahLst/>
            <a:rect l="l" t="t" r="r" b="b"/>
            <a:pathLst>
              <a:path w="7045" h="1068">
                <a:moveTo>
                  <a:pt x="12353" y="11956"/>
                </a:moveTo>
                <a:cubicBezTo>
                  <a:pt x="12361" y="11964"/>
                  <a:pt x="12370" y="11973"/>
                  <a:pt x="12378" y="11981"/>
                </a:cubicBezTo>
              </a:path>
              <a:path w="7045" h="1068">
                <a:moveTo>
                  <a:pt x="12378" y="11981"/>
                </a:moveTo>
                <a:lnTo>
                  <a:pt x="12378" y="11981"/>
                </a:lnTo>
              </a:path>
              <a:path w="7045" h="1068">
                <a:moveTo>
                  <a:pt x="12874" y="11435"/>
                </a:moveTo>
                <a:cubicBezTo>
                  <a:pt x="12844" y="11554"/>
                  <a:pt x="12784" y="11942"/>
                  <a:pt x="12725" y="11881"/>
                </a:cubicBezTo>
              </a:path>
              <a:path w="7045" h="1068">
                <a:moveTo>
                  <a:pt x="13965" y="11757"/>
                </a:moveTo>
                <a:cubicBezTo>
                  <a:pt x="14139" y="11757"/>
                  <a:pt x="14197" y="11757"/>
                  <a:pt x="14312" y="11733"/>
                </a:cubicBezTo>
              </a:path>
              <a:path w="7045" h="1068">
                <a:moveTo>
                  <a:pt x="17735" y="11584"/>
                </a:moveTo>
                <a:cubicBezTo>
                  <a:pt x="17711" y="11633"/>
                  <a:pt x="17703" y="11650"/>
                  <a:pt x="17760" y="11658"/>
                </a:cubicBezTo>
              </a:path>
              <a:path w="7045" h="1068">
                <a:moveTo>
                  <a:pt x="17760" y="11658"/>
                </a:moveTo>
                <a:lnTo>
                  <a:pt x="17760" y="11658"/>
                </a:lnTo>
              </a:path>
              <a:path w="7045" h="1068">
                <a:moveTo>
                  <a:pt x="19397" y="10914"/>
                </a:moveTo>
                <a:lnTo>
                  <a:pt x="19397" y="10914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4071960"/>
            <a:ext cx="1001520" cy="268200"/>
          </a:xfrm>
          <a:custGeom>
            <a:avLst/>
            <a:gdLst/>
            <a:ahLst/>
            <a:rect l="l" t="t" r="r" b="b"/>
            <a:pathLst>
              <a:path w="2779" h="745">
                <a:moveTo>
                  <a:pt x="9823" y="11509"/>
                </a:moveTo>
                <a:cubicBezTo>
                  <a:pt x="9865" y="11404"/>
                  <a:pt x="9894" y="11442"/>
                  <a:pt x="10021" y="11410"/>
                </a:cubicBezTo>
                <a:cubicBezTo>
                  <a:pt x="10116" y="11679"/>
                  <a:pt x="10007" y="11907"/>
                  <a:pt x="9674" y="11956"/>
                </a:cubicBezTo>
                <a:cubicBezTo>
                  <a:pt x="9549" y="11935"/>
                  <a:pt x="9507" y="11950"/>
                  <a:pt x="9500" y="11857"/>
                </a:cubicBezTo>
                <a:cubicBezTo>
                  <a:pt x="9655" y="11772"/>
                  <a:pt x="9785" y="11826"/>
                  <a:pt x="9922" y="11956"/>
                </a:cubicBezTo>
                <a:cubicBezTo>
                  <a:pt x="9952" y="12015"/>
                  <a:pt x="9970" y="12025"/>
                  <a:pt x="10021" y="11956"/>
                </a:cubicBezTo>
              </a:path>
              <a:path w="2779" h="745">
                <a:moveTo>
                  <a:pt x="10319" y="11485"/>
                </a:moveTo>
                <a:cubicBezTo>
                  <a:pt x="10127" y="11616"/>
                  <a:pt x="10100" y="11774"/>
                  <a:pt x="10071" y="12005"/>
                </a:cubicBezTo>
                <a:cubicBezTo>
                  <a:pt x="10312" y="12030"/>
                  <a:pt x="10550" y="11900"/>
                  <a:pt x="10492" y="11584"/>
                </a:cubicBezTo>
                <a:cubicBezTo>
                  <a:pt x="10425" y="11472"/>
                  <a:pt x="10414" y="11434"/>
                  <a:pt x="10319" y="11435"/>
                </a:cubicBezTo>
              </a:path>
              <a:path w="2779" h="745">
                <a:moveTo>
                  <a:pt x="10939" y="11559"/>
                </a:moveTo>
                <a:cubicBezTo>
                  <a:pt x="10953" y="11645"/>
                  <a:pt x="10991" y="11972"/>
                  <a:pt x="11088" y="12005"/>
                </a:cubicBezTo>
                <a:cubicBezTo>
                  <a:pt x="11104" y="11989"/>
                  <a:pt x="11121" y="11972"/>
                  <a:pt x="11137" y="11956"/>
                </a:cubicBezTo>
              </a:path>
              <a:path w="2779" h="745">
                <a:moveTo>
                  <a:pt x="11237" y="11485"/>
                </a:moveTo>
                <a:cubicBezTo>
                  <a:pt x="11117" y="11642"/>
                  <a:pt x="10750" y="12006"/>
                  <a:pt x="10889" y="12005"/>
                </a:cubicBezTo>
              </a:path>
              <a:path w="2779" h="745">
                <a:moveTo>
                  <a:pt x="11906" y="11435"/>
                </a:moveTo>
                <a:cubicBezTo>
                  <a:pt x="12022" y="11319"/>
                  <a:pt x="12070" y="11331"/>
                  <a:pt x="12229" y="11311"/>
                </a:cubicBezTo>
                <a:cubicBezTo>
                  <a:pt x="12255" y="11536"/>
                  <a:pt x="12130" y="11589"/>
                  <a:pt x="11906" y="11683"/>
                </a:cubicBezTo>
                <a:cubicBezTo>
                  <a:pt x="12040" y="11702"/>
                  <a:pt x="12287" y="11810"/>
                  <a:pt x="12030" y="11956"/>
                </a:cubicBezTo>
                <a:cubicBezTo>
                  <a:pt x="11877" y="12043"/>
                  <a:pt x="11736" y="11994"/>
                  <a:pt x="11584" y="11956"/>
                </a:cubicBezTo>
                <a:cubicBezTo>
                  <a:pt x="11744" y="11884"/>
                  <a:pt x="11792" y="11920"/>
                  <a:pt x="11931" y="120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97280" y="4010040"/>
            <a:ext cx="177840" cy="3301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13097" y="11485"/>
                </a:moveTo>
                <a:cubicBezTo>
                  <a:pt x="13080" y="11566"/>
                  <a:pt x="13059" y="11651"/>
                  <a:pt x="13047" y="11733"/>
                </a:cubicBezTo>
                <a:cubicBezTo>
                  <a:pt x="13264" y="11810"/>
                  <a:pt x="13297" y="11771"/>
                  <a:pt x="13469" y="11633"/>
                </a:cubicBezTo>
              </a:path>
              <a:path w="497" h="919">
                <a:moveTo>
                  <a:pt x="13543" y="11137"/>
                </a:moveTo>
                <a:cubicBezTo>
                  <a:pt x="13463" y="11421"/>
                  <a:pt x="13389" y="11702"/>
                  <a:pt x="13295" y="11981"/>
                </a:cubicBezTo>
                <a:cubicBezTo>
                  <a:pt x="13275" y="12041"/>
                  <a:pt x="13257" y="12076"/>
                  <a:pt x="13295" y="120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5040" y="4125960"/>
            <a:ext cx="125280" cy="27000"/>
          </a:xfrm>
          <a:custGeom>
            <a:avLst/>
            <a:gdLst/>
            <a:ahLst/>
            <a:rect l="l" t="t" r="r" b="b"/>
            <a:pathLst>
              <a:path w="348" h="75">
                <a:moveTo>
                  <a:pt x="14015" y="11534"/>
                </a:moveTo>
                <a:cubicBezTo>
                  <a:pt x="14132" y="11512"/>
                  <a:pt x="14247" y="11491"/>
                  <a:pt x="14362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57920" y="3973680"/>
            <a:ext cx="465120" cy="295200"/>
          </a:xfrm>
          <a:custGeom>
            <a:avLst/>
            <a:gdLst/>
            <a:ahLst/>
            <a:rect l="l" t="t" r="r" b="b"/>
            <a:pathLst>
              <a:path w="1291" h="820">
                <a:moveTo>
                  <a:pt x="16495" y="11162"/>
                </a:moveTo>
                <a:cubicBezTo>
                  <a:pt x="16455" y="11365"/>
                  <a:pt x="16304" y="11535"/>
                  <a:pt x="16272" y="11733"/>
                </a:cubicBezTo>
                <a:cubicBezTo>
                  <a:pt x="16280" y="11766"/>
                  <a:pt x="16289" y="11799"/>
                  <a:pt x="16297" y="11832"/>
                </a:cubicBezTo>
                <a:cubicBezTo>
                  <a:pt x="16535" y="11845"/>
                  <a:pt x="16619" y="11781"/>
                  <a:pt x="16743" y="11584"/>
                </a:cubicBezTo>
                <a:cubicBezTo>
                  <a:pt x="16676" y="11592"/>
                  <a:pt x="16328" y="11787"/>
                  <a:pt x="16446" y="11857"/>
                </a:cubicBezTo>
                <a:cubicBezTo>
                  <a:pt x="16495" y="11849"/>
                  <a:pt x="16545" y="11840"/>
                  <a:pt x="16594" y="11832"/>
                </a:cubicBezTo>
              </a:path>
              <a:path w="1291" h="820">
                <a:moveTo>
                  <a:pt x="17314" y="11187"/>
                </a:moveTo>
                <a:cubicBezTo>
                  <a:pt x="17263" y="11187"/>
                  <a:pt x="17487" y="11059"/>
                  <a:pt x="17562" y="11038"/>
                </a:cubicBezTo>
                <a:cubicBezTo>
                  <a:pt x="17517" y="11348"/>
                  <a:pt x="17471" y="11581"/>
                  <a:pt x="17115" y="11609"/>
                </a:cubicBezTo>
                <a:cubicBezTo>
                  <a:pt x="17082" y="11601"/>
                  <a:pt x="17049" y="11592"/>
                  <a:pt x="17016" y="11584"/>
                </a:cubicBezTo>
                <a:cubicBezTo>
                  <a:pt x="17112" y="11460"/>
                  <a:pt x="17253" y="11374"/>
                  <a:pt x="17363" y="11559"/>
                </a:cubicBezTo>
                <a:cubicBezTo>
                  <a:pt x="17403" y="11626"/>
                  <a:pt x="17373" y="11753"/>
                  <a:pt x="17388" y="117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16800" y="3990960"/>
            <a:ext cx="687240" cy="277920"/>
          </a:xfrm>
          <a:custGeom>
            <a:avLst/>
            <a:gdLst/>
            <a:ahLst/>
            <a:rect l="l" t="t" r="r" b="b"/>
            <a:pathLst>
              <a:path w="1911" h="770">
                <a:moveTo>
                  <a:pt x="18802" y="11088"/>
                </a:moveTo>
                <a:cubicBezTo>
                  <a:pt x="18709" y="11096"/>
                  <a:pt x="18322" y="11091"/>
                  <a:pt x="18405" y="11286"/>
                </a:cubicBezTo>
                <a:cubicBezTo>
                  <a:pt x="18487" y="11477"/>
                  <a:pt x="18574" y="11526"/>
                  <a:pt x="18604" y="11733"/>
                </a:cubicBezTo>
                <a:cubicBezTo>
                  <a:pt x="18571" y="11741"/>
                  <a:pt x="18537" y="11749"/>
                  <a:pt x="18504" y="11757"/>
                </a:cubicBezTo>
                <a:cubicBezTo>
                  <a:pt x="18281" y="11534"/>
                  <a:pt x="18513" y="11454"/>
                  <a:pt x="18728" y="11261"/>
                </a:cubicBezTo>
                <a:cubicBezTo>
                  <a:pt x="18762" y="11227"/>
                  <a:pt x="18756" y="11214"/>
                  <a:pt x="18678" y="11212"/>
                </a:cubicBezTo>
              </a:path>
              <a:path w="1911" h="770">
                <a:moveTo>
                  <a:pt x="19348" y="11485"/>
                </a:moveTo>
                <a:cubicBezTo>
                  <a:pt x="19312" y="11590"/>
                  <a:pt x="19213" y="11719"/>
                  <a:pt x="19199" y="11832"/>
                </a:cubicBezTo>
                <a:cubicBezTo>
                  <a:pt x="19207" y="11840"/>
                  <a:pt x="19216" y="11849"/>
                  <a:pt x="19224" y="11857"/>
                </a:cubicBezTo>
                <a:cubicBezTo>
                  <a:pt x="19444" y="11822"/>
                  <a:pt x="19617" y="11735"/>
                  <a:pt x="19769" y="11559"/>
                </a:cubicBezTo>
                <a:cubicBezTo>
                  <a:pt x="19791" y="11534"/>
                  <a:pt x="19714" y="11763"/>
                  <a:pt x="19695" y="11832"/>
                </a:cubicBezTo>
                <a:cubicBezTo>
                  <a:pt x="19728" y="11668"/>
                  <a:pt x="19810" y="11601"/>
                  <a:pt x="19943" y="11509"/>
                </a:cubicBezTo>
                <a:cubicBezTo>
                  <a:pt x="20064" y="11569"/>
                  <a:pt x="19938" y="11688"/>
                  <a:pt x="19968" y="11807"/>
                </a:cubicBezTo>
                <a:cubicBezTo>
                  <a:pt x="20011" y="11976"/>
                  <a:pt x="20253" y="11777"/>
                  <a:pt x="20290" y="117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94080" y="5241960"/>
            <a:ext cx="3946680" cy="223920"/>
          </a:xfrm>
          <a:custGeom>
            <a:avLst/>
            <a:gdLst/>
            <a:ahLst/>
            <a:rect l="l" t="t" r="r" b="b"/>
            <a:pathLst>
              <a:path w="10964" h="621">
                <a:moveTo>
                  <a:pt x="9426" y="14908"/>
                </a:moveTo>
                <a:cubicBezTo>
                  <a:pt x="9452" y="14986"/>
                  <a:pt x="9471" y="15090"/>
                  <a:pt x="9525" y="15131"/>
                </a:cubicBezTo>
              </a:path>
              <a:path w="10964" h="621">
                <a:moveTo>
                  <a:pt x="10393" y="14932"/>
                </a:moveTo>
                <a:cubicBezTo>
                  <a:pt x="10543" y="14932"/>
                  <a:pt x="10593" y="14932"/>
                  <a:pt x="10691" y="14957"/>
                </a:cubicBezTo>
              </a:path>
              <a:path w="10964" h="621">
                <a:moveTo>
                  <a:pt x="10294" y="15156"/>
                </a:moveTo>
                <a:cubicBezTo>
                  <a:pt x="10425" y="15188"/>
                  <a:pt x="10491" y="15192"/>
                  <a:pt x="10592" y="15156"/>
                </a:cubicBezTo>
              </a:path>
              <a:path w="10964" h="621">
                <a:moveTo>
                  <a:pt x="14808" y="14560"/>
                </a:moveTo>
                <a:cubicBezTo>
                  <a:pt x="14810" y="14612"/>
                  <a:pt x="14829" y="15068"/>
                  <a:pt x="14908" y="15056"/>
                </a:cubicBezTo>
                <a:cubicBezTo>
                  <a:pt x="14933" y="15031"/>
                  <a:pt x="14957" y="15007"/>
                  <a:pt x="14982" y="14982"/>
                </a:cubicBezTo>
              </a:path>
              <a:path w="10964" h="621">
                <a:moveTo>
                  <a:pt x="15081" y="14560"/>
                </a:moveTo>
                <a:cubicBezTo>
                  <a:pt x="14966" y="14718"/>
                  <a:pt x="14851" y="14875"/>
                  <a:pt x="14734" y="15032"/>
                </a:cubicBezTo>
              </a:path>
              <a:path w="10964" h="621">
                <a:moveTo>
                  <a:pt x="14734" y="15032"/>
                </a:moveTo>
                <a:lnTo>
                  <a:pt x="14734" y="15032"/>
                </a:lnTo>
              </a:path>
              <a:path w="10964" h="621">
                <a:moveTo>
                  <a:pt x="15726" y="15081"/>
                </a:moveTo>
                <a:cubicBezTo>
                  <a:pt x="15686" y="15081"/>
                  <a:pt x="15688" y="15092"/>
                  <a:pt x="15751" y="15131"/>
                </a:cubicBezTo>
              </a:path>
              <a:path w="10964" h="621">
                <a:moveTo>
                  <a:pt x="15751" y="15131"/>
                </a:moveTo>
                <a:lnTo>
                  <a:pt x="15751" y="15131"/>
                </a:lnTo>
              </a:path>
              <a:path w="10964" h="621">
                <a:moveTo>
                  <a:pt x="16247" y="14560"/>
                </a:moveTo>
                <a:cubicBezTo>
                  <a:pt x="16230" y="14703"/>
                  <a:pt x="16160" y="15041"/>
                  <a:pt x="16222" y="15081"/>
                </a:cubicBezTo>
              </a:path>
              <a:path w="10964" h="621">
                <a:moveTo>
                  <a:pt x="17487" y="14709"/>
                </a:moveTo>
                <a:cubicBezTo>
                  <a:pt x="17652" y="14684"/>
                  <a:pt x="17818" y="14660"/>
                  <a:pt x="17983" y="14635"/>
                </a:cubicBezTo>
              </a:path>
              <a:path w="10964" h="621">
                <a:moveTo>
                  <a:pt x="17487" y="14883"/>
                </a:moveTo>
                <a:cubicBezTo>
                  <a:pt x="17676" y="14921"/>
                  <a:pt x="17782" y="14924"/>
                  <a:pt x="17934" y="14883"/>
                </a:cubicBezTo>
              </a:path>
              <a:path w="10964" h="621">
                <a:moveTo>
                  <a:pt x="17934" y="14883"/>
                </a:moveTo>
                <a:lnTo>
                  <a:pt x="17934" y="14883"/>
                </a:lnTo>
              </a:path>
              <a:path w="10964" h="621">
                <a:moveTo>
                  <a:pt x="20315" y="14982"/>
                </a:moveTo>
                <a:cubicBezTo>
                  <a:pt x="20340" y="14974"/>
                  <a:pt x="20364" y="14965"/>
                  <a:pt x="20389" y="14957"/>
                </a:cubicBezTo>
              </a:path>
              <a:path w="10964" h="621">
                <a:moveTo>
                  <a:pt x="20389" y="14957"/>
                </a:moveTo>
                <a:lnTo>
                  <a:pt x="20389" y="1495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97160" y="5276880"/>
            <a:ext cx="446040" cy="223920"/>
          </a:xfrm>
          <a:custGeom>
            <a:avLst/>
            <a:gdLst/>
            <a:ahLst/>
            <a:rect l="l" t="t" r="r" b="b"/>
            <a:pathLst>
              <a:path w="1241" h="621">
                <a:moveTo>
                  <a:pt x="8880" y="14660"/>
                </a:moveTo>
                <a:cubicBezTo>
                  <a:pt x="9008" y="14671"/>
                  <a:pt x="9102" y="14688"/>
                  <a:pt x="9227" y="14660"/>
                </a:cubicBezTo>
                <a:cubicBezTo>
                  <a:pt x="9268" y="14822"/>
                  <a:pt x="9127" y="15021"/>
                  <a:pt x="9054" y="15180"/>
                </a:cubicBezTo>
                <a:cubicBezTo>
                  <a:pt x="9029" y="15230"/>
                  <a:pt x="9021" y="15247"/>
                  <a:pt x="9054" y="15180"/>
                </a:cubicBezTo>
              </a:path>
              <a:path w="1241" h="621">
                <a:moveTo>
                  <a:pt x="9575" y="14833"/>
                </a:moveTo>
                <a:cubicBezTo>
                  <a:pt x="9535" y="14892"/>
                  <a:pt x="9315" y="15192"/>
                  <a:pt x="9351" y="15156"/>
                </a:cubicBezTo>
              </a:path>
              <a:path w="1241" h="621">
                <a:moveTo>
                  <a:pt x="9847" y="14759"/>
                </a:moveTo>
                <a:cubicBezTo>
                  <a:pt x="10067" y="14797"/>
                  <a:pt x="10210" y="14915"/>
                  <a:pt x="10046" y="15156"/>
                </a:cubicBezTo>
                <a:cubicBezTo>
                  <a:pt x="9939" y="15313"/>
                  <a:pt x="9834" y="15270"/>
                  <a:pt x="9699" y="15230"/>
                </a:cubicBezTo>
                <a:cubicBezTo>
                  <a:pt x="9797" y="15032"/>
                  <a:pt x="9824" y="15087"/>
                  <a:pt x="9971" y="15205"/>
                </a:cubicBezTo>
                <a:cubicBezTo>
                  <a:pt x="9988" y="15213"/>
                  <a:pt x="10004" y="15222"/>
                  <a:pt x="10021" y="152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00680" y="5268960"/>
            <a:ext cx="258480" cy="295200"/>
          </a:xfrm>
          <a:custGeom>
            <a:avLst/>
            <a:gdLst/>
            <a:ahLst/>
            <a:rect l="l" t="t" r="r" b="b"/>
            <a:pathLst>
              <a:path w="721" h="819">
                <a:moveTo>
                  <a:pt x="11311" y="14759"/>
                </a:moveTo>
                <a:cubicBezTo>
                  <a:pt x="11243" y="14929"/>
                  <a:pt x="11131" y="15143"/>
                  <a:pt x="11112" y="15329"/>
                </a:cubicBezTo>
                <a:cubicBezTo>
                  <a:pt x="11120" y="15313"/>
                  <a:pt x="11129" y="15296"/>
                  <a:pt x="11137" y="15280"/>
                </a:cubicBezTo>
              </a:path>
              <a:path w="721" h="819">
                <a:moveTo>
                  <a:pt x="11559" y="14784"/>
                </a:moveTo>
                <a:cubicBezTo>
                  <a:pt x="11537" y="14871"/>
                  <a:pt x="11452" y="15050"/>
                  <a:pt x="11460" y="15081"/>
                </a:cubicBezTo>
                <a:cubicBezTo>
                  <a:pt x="11595" y="15113"/>
                  <a:pt x="11700" y="15146"/>
                  <a:pt x="11832" y="15106"/>
                </a:cubicBezTo>
              </a:path>
              <a:path w="721" h="819">
                <a:moveTo>
                  <a:pt x="11807" y="14635"/>
                </a:moveTo>
                <a:cubicBezTo>
                  <a:pt x="11736" y="14879"/>
                  <a:pt x="11583" y="15195"/>
                  <a:pt x="11584" y="15453"/>
                </a:cubicBezTo>
                <a:cubicBezTo>
                  <a:pt x="11592" y="15453"/>
                  <a:pt x="11601" y="15453"/>
                  <a:pt x="11609" y="1545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64040" y="5160960"/>
            <a:ext cx="304920" cy="260280"/>
          </a:xfrm>
          <a:custGeom>
            <a:avLst/>
            <a:gdLst/>
            <a:ahLst/>
            <a:rect l="l" t="t" r="r" b="b"/>
            <a:pathLst>
              <a:path w="845" h="720">
                <a:moveTo>
                  <a:pt x="14064" y="14461"/>
                </a:moveTo>
                <a:cubicBezTo>
                  <a:pt x="14016" y="14656"/>
                  <a:pt x="13909" y="14830"/>
                  <a:pt x="13816" y="15007"/>
                </a:cubicBezTo>
                <a:cubicBezTo>
                  <a:pt x="13791" y="15056"/>
                  <a:pt x="13783" y="15072"/>
                  <a:pt x="13816" y="15007"/>
                </a:cubicBezTo>
              </a:path>
              <a:path w="845" h="720">
                <a:moveTo>
                  <a:pt x="14312" y="14511"/>
                </a:moveTo>
                <a:cubicBezTo>
                  <a:pt x="14245" y="14624"/>
                  <a:pt x="14229" y="14656"/>
                  <a:pt x="14163" y="14709"/>
                </a:cubicBezTo>
                <a:cubicBezTo>
                  <a:pt x="14273" y="14709"/>
                  <a:pt x="14343" y="14758"/>
                  <a:pt x="14436" y="14808"/>
                </a:cubicBezTo>
                <a:cubicBezTo>
                  <a:pt x="14490" y="14835"/>
                  <a:pt x="14510" y="14840"/>
                  <a:pt x="14536" y="14784"/>
                </a:cubicBezTo>
              </a:path>
              <a:path w="845" h="720">
                <a:moveTo>
                  <a:pt x="14635" y="14337"/>
                </a:moveTo>
                <a:cubicBezTo>
                  <a:pt x="14619" y="14386"/>
                  <a:pt x="14402" y="15052"/>
                  <a:pt x="14436" y="15056"/>
                </a:cubicBezTo>
                <a:cubicBezTo>
                  <a:pt x="14453" y="15031"/>
                  <a:pt x="14469" y="15007"/>
                  <a:pt x="14486" y="149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91080" y="5187960"/>
            <a:ext cx="179640" cy="260280"/>
          </a:xfrm>
          <a:custGeom>
            <a:avLst/>
            <a:gdLst/>
            <a:ahLst/>
            <a:rect l="l" t="t" r="r" b="b"/>
            <a:pathLst>
              <a:path w="497" h="720">
                <a:moveTo>
                  <a:pt x="15379" y="14536"/>
                </a:moveTo>
                <a:cubicBezTo>
                  <a:pt x="15498" y="14430"/>
                  <a:pt x="15610" y="14403"/>
                  <a:pt x="15751" y="14461"/>
                </a:cubicBezTo>
                <a:cubicBezTo>
                  <a:pt x="15676" y="14598"/>
                  <a:pt x="15640" y="14655"/>
                  <a:pt x="15503" y="14734"/>
                </a:cubicBezTo>
                <a:cubicBezTo>
                  <a:pt x="15694" y="14758"/>
                  <a:pt x="15627" y="14919"/>
                  <a:pt x="15528" y="15032"/>
                </a:cubicBezTo>
                <a:cubicBezTo>
                  <a:pt x="15402" y="15176"/>
                  <a:pt x="15344" y="15157"/>
                  <a:pt x="15255" y="15056"/>
                </a:cubicBezTo>
                <a:cubicBezTo>
                  <a:pt x="15364" y="14985"/>
                  <a:pt x="15388" y="15026"/>
                  <a:pt x="15478" y="151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11920" y="5126040"/>
            <a:ext cx="160200" cy="366840"/>
          </a:xfrm>
          <a:custGeom>
            <a:avLst/>
            <a:gdLst/>
            <a:ahLst/>
            <a:rect l="l" t="t" r="r" b="b"/>
            <a:pathLst>
              <a:path w="447" h="1018">
                <a:moveTo>
                  <a:pt x="16520" y="14660"/>
                </a:moveTo>
                <a:cubicBezTo>
                  <a:pt x="16482" y="14731"/>
                  <a:pt x="16359" y="14847"/>
                  <a:pt x="16470" y="14908"/>
                </a:cubicBezTo>
                <a:cubicBezTo>
                  <a:pt x="16639" y="15000"/>
                  <a:pt x="16666" y="14936"/>
                  <a:pt x="16793" y="14833"/>
                </a:cubicBezTo>
              </a:path>
              <a:path w="447" h="1018">
                <a:moveTo>
                  <a:pt x="16867" y="14238"/>
                </a:moveTo>
                <a:cubicBezTo>
                  <a:pt x="16803" y="14259"/>
                  <a:pt x="16804" y="14461"/>
                  <a:pt x="16793" y="14511"/>
                </a:cubicBezTo>
                <a:cubicBezTo>
                  <a:pt x="16738" y="14765"/>
                  <a:pt x="16655" y="15004"/>
                  <a:pt x="16594" y="152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67360" y="5099040"/>
            <a:ext cx="911520" cy="330120"/>
          </a:xfrm>
          <a:custGeom>
            <a:avLst/>
            <a:gdLst/>
            <a:ahLst/>
            <a:rect l="l" t="t" r="r" b="b"/>
            <a:pathLst>
              <a:path w="2531" h="919">
                <a:moveTo>
                  <a:pt x="19224" y="14312"/>
                </a:moveTo>
                <a:cubicBezTo>
                  <a:pt x="19155" y="14472"/>
                  <a:pt x="19138" y="14517"/>
                  <a:pt x="19075" y="14610"/>
                </a:cubicBezTo>
                <a:cubicBezTo>
                  <a:pt x="19202" y="14636"/>
                  <a:pt x="19338" y="14672"/>
                  <a:pt x="19472" y="14684"/>
                </a:cubicBezTo>
                <a:cubicBezTo>
                  <a:pt x="19505" y="14684"/>
                  <a:pt x="19538" y="14684"/>
                  <a:pt x="19571" y="14684"/>
                </a:cubicBezTo>
              </a:path>
              <a:path w="2531" h="919">
                <a:moveTo>
                  <a:pt x="19546" y="14213"/>
                </a:moveTo>
                <a:cubicBezTo>
                  <a:pt x="19440" y="14502"/>
                  <a:pt x="19327" y="14787"/>
                  <a:pt x="19248" y="15081"/>
                </a:cubicBezTo>
              </a:path>
              <a:path w="2531" h="919">
                <a:moveTo>
                  <a:pt x="19844" y="14387"/>
                </a:moveTo>
                <a:cubicBezTo>
                  <a:pt x="20011" y="14262"/>
                  <a:pt x="20075" y="14255"/>
                  <a:pt x="20241" y="14337"/>
                </a:cubicBezTo>
                <a:cubicBezTo>
                  <a:pt x="20171" y="14464"/>
                  <a:pt x="19848" y="14720"/>
                  <a:pt x="19943" y="14610"/>
                </a:cubicBezTo>
                <a:cubicBezTo>
                  <a:pt x="19968" y="14593"/>
                  <a:pt x="19992" y="14577"/>
                  <a:pt x="20017" y="14560"/>
                </a:cubicBezTo>
                <a:cubicBezTo>
                  <a:pt x="20249" y="14683"/>
                  <a:pt x="20219" y="14882"/>
                  <a:pt x="19918" y="14957"/>
                </a:cubicBezTo>
                <a:cubicBezTo>
                  <a:pt x="19766" y="14957"/>
                  <a:pt x="19726" y="14966"/>
                  <a:pt x="19645" y="14908"/>
                </a:cubicBezTo>
                <a:cubicBezTo>
                  <a:pt x="19763" y="14874"/>
                  <a:pt x="19891" y="14988"/>
                  <a:pt x="20017" y="15032"/>
                </a:cubicBezTo>
              </a:path>
              <a:path w="2531" h="919">
                <a:moveTo>
                  <a:pt x="20935" y="14511"/>
                </a:moveTo>
                <a:cubicBezTo>
                  <a:pt x="21009" y="14420"/>
                  <a:pt x="20970" y="14348"/>
                  <a:pt x="20960" y="14213"/>
                </a:cubicBezTo>
                <a:cubicBezTo>
                  <a:pt x="20878" y="14208"/>
                  <a:pt x="20433" y="14428"/>
                  <a:pt x="20638" y="14585"/>
                </a:cubicBezTo>
                <a:cubicBezTo>
                  <a:pt x="20746" y="14668"/>
                  <a:pt x="21005" y="14366"/>
                  <a:pt x="21059" y="14312"/>
                </a:cubicBezTo>
                <a:cubicBezTo>
                  <a:pt x="21008" y="14524"/>
                  <a:pt x="20810" y="14828"/>
                  <a:pt x="20811" y="15032"/>
                </a:cubicBezTo>
                <a:cubicBezTo>
                  <a:pt x="20828" y="15015"/>
                  <a:pt x="20844" y="14999"/>
                  <a:pt x="20861" y="14982"/>
                </a:cubicBezTo>
              </a:path>
              <a:path w="2531" h="919">
                <a:moveTo>
                  <a:pt x="21282" y="14288"/>
                </a:moveTo>
                <a:cubicBezTo>
                  <a:pt x="21157" y="14485"/>
                  <a:pt x="21090" y="14683"/>
                  <a:pt x="21034" y="14908"/>
                </a:cubicBezTo>
                <a:cubicBezTo>
                  <a:pt x="21223" y="14970"/>
                  <a:pt x="21477" y="14901"/>
                  <a:pt x="21605" y="14709"/>
                </a:cubicBezTo>
                <a:cubicBezTo>
                  <a:pt x="21605" y="14676"/>
                  <a:pt x="21605" y="14643"/>
                  <a:pt x="21605" y="14610"/>
                </a:cubicBezTo>
                <a:cubicBezTo>
                  <a:pt x="21410" y="14737"/>
                  <a:pt x="21223" y="14853"/>
                  <a:pt x="21431" y="149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74000" y="5180040"/>
            <a:ext cx="571680" cy="160200"/>
          </a:xfrm>
          <a:custGeom>
            <a:avLst/>
            <a:gdLst/>
            <a:ahLst/>
            <a:rect l="l" t="t" r="r" b="b"/>
            <a:pathLst>
              <a:path w="1588" h="447">
                <a:moveTo>
                  <a:pt x="22423" y="14412"/>
                </a:moveTo>
                <a:cubicBezTo>
                  <a:pt x="22478" y="14538"/>
                  <a:pt x="22448" y="14454"/>
                  <a:pt x="22448" y="14387"/>
                </a:cubicBezTo>
                <a:cubicBezTo>
                  <a:pt x="22247" y="14477"/>
                  <a:pt x="22238" y="14520"/>
                  <a:pt x="22151" y="14734"/>
                </a:cubicBezTo>
                <a:cubicBezTo>
                  <a:pt x="22434" y="14934"/>
                  <a:pt x="22576" y="14759"/>
                  <a:pt x="22820" y="14536"/>
                </a:cubicBezTo>
                <a:cubicBezTo>
                  <a:pt x="23011" y="14361"/>
                  <a:pt x="22824" y="14677"/>
                  <a:pt x="22796" y="14759"/>
                </a:cubicBezTo>
                <a:cubicBezTo>
                  <a:pt x="22796" y="14767"/>
                  <a:pt x="22796" y="14776"/>
                  <a:pt x="22796" y="14784"/>
                </a:cubicBezTo>
                <a:cubicBezTo>
                  <a:pt x="22832" y="14713"/>
                  <a:pt x="22929" y="14337"/>
                  <a:pt x="23068" y="14511"/>
                </a:cubicBezTo>
                <a:cubicBezTo>
                  <a:pt x="23110" y="14635"/>
                  <a:pt x="23118" y="14660"/>
                  <a:pt x="23143" y="14734"/>
                </a:cubicBezTo>
                <a:cubicBezTo>
                  <a:pt x="23195" y="14619"/>
                  <a:pt x="23255" y="14502"/>
                  <a:pt x="23316" y="14387"/>
                </a:cubicBezTo>
                <a:cubicBezTo>
                  <a:pt x="23361" y="14642"/>
                  <a:pt x="23457" y="14683"/>
                  <a:pt x="23713" y="14610"/>
                </a:cubicBezTo>
                <a:cubicBezTo>
                  <a:pt x="23721" y="14602"/>
                  <a:pt x="23730" y="14593"/>
                  <a:pt x="23738" y="145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circum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23960" y="133344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920" y="1752480"/>
            <a:ext cx="3657600" cy="3353040"/>
            <a:chOff x="2590920" y="1752480"/>
            <a:chExt cx="3657600" cy="3353040"/>
          </a:xfrm>
        </p:grpSpPr>
        <p:sp>
          <p:nvSpPr>
            <p:cNvPr id="82" name=""/>
            <p:cNvSpPr/>
            <p:nvPr/>
          </p:nvSpPr>
          <p:spPr>
            <a:xfrm>
              <a:off x="2590920" y="1752480"/>
              <a:ext cx="3657600" cy="3353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2674800"/>
              <a:ext cx="144792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3200760" y="2141640"/>
              <a:ext cx="7617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75440" y="20113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496040" y="29034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94320" y="335268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.2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053720" y="551664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ner Circle:  ____________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er Circle:  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1800" y="2820960"/>
            <a:ext cx="19080" cy="144360"/>
          </a:xfrm>
          <a:custGeom>
            <a:avLst/>
            <a:gdLst/>
            <a:ahLst/>
            <a:rect l="l" t="t" r="r" b="b"/>
            <a:pathLst>
              <a:path w="51" h="398">
                <a:moveTo>
                  <a:pt x="2505" y="7838"/>
                </a:moveTo>
                <a:cubicBezTo>
                  <a:pt x="2505" y="7974"/>
                  <a:pt x="2543" y="8100"/>
                  <a:pt x="2555" y="82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3240" y="3009960"/>
            <a:ext cx="9720" cy="258840"/>
          </a:xfrm>
          <a:custGeom>
            <a:avLst/>
            <a:gdLst/>
            <a:ahLst/>
            <a:rect l="l" t="t" r="r" b="b"/>
            <a:pathLst>
              <a:path w="26" h="721">
                <a:moveTo>
                  <a:pt x="1761" y="8384"/>
                </a:moveTo>
                <a:cubicBezTo>
                  <a:pt x="1761" y="8235"/>
                  <a:pt x="1780" y="8632"/>
                  <a:pt x="1786" y="8781"/>
                </a:cubicBezTo>
                <a:cubicBezTo>
                  <a:pt x="1786" y="8939"/>
                  <a:pt x="1789" y="8982"/>
                  <a:pt x="1761" y="907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4800" y="3017880"/>
            <a:ext cx="125280" cy="18900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2480" y="8483"/>
                </a:moveTo>
                <a:cubicBezTo>
                  <a:pt x="2495" y="8424"/>
                  <a:pt x="2519" y="8427"/>
                  <a:pt x="2580" y="8384"/>
                </a:cubicBezTo>
                <a:cubicBezTo>
                  <a:pt x="2771" y="8535"/>
                  <a:pt x="2752" y="8673"/>
                  <a:pt x="2555" y="8855"/>
                </a:cubicBezTo>
                <a:cubicBezTo>
                  <a:pt x="2522" y="8872"/>
                  <a:pt x="2489" y="8888"/>
                  <a:pt x="2456" y="8905"/>
                </a:cubicBezTo>
                <a:cubicBezTo>
                  <a:pt x="2403" y="8782"/>
                  <a:pt x="2437" y="8674"/>
                  <a:pt x="2604" y="8706"/>
                </a:cubicBezTo>
                <a:cubicBezTo>
                  <a:pt x="2702" y="8725"/>
                  <a:pt x="2723" y="8789"/>
                  <a:pt x="2778" y="88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2973240"/>
            <a:ext cx="144360" cy="23364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3274" y="8260"/>
                </a:moveTo>
                <a:cubicBezTo>
                  <a:pt x="3271" y="8261"/>
                  <a:pt x="3131" y="8304"/>
                  <a:pt x="3125" y="8310"/>
                </a:cubicBezTo>
                <a:cubicBezTo>
                  <a:pt x="3066" y="8372"/>
                  <a:pt x="2996" y="8478"/>
                  <a:pt x="2977" y="8558"/>
                </a:cubicBezTo>
                <a:cubicBezTo>
                  <a:pt x="3089" y="8558"/>
                  <a:pt x="3203" y="8532"/>
                  <a:pt x="3299" y="8607"/>
                </a:cubicBezTo>
                <a:cubicBezTo>
                  <a:pt x="3492" y="8757"/>
                  <a:pt x="3104" y="8899"/>
                  <a:pt x="3001" y="8905"/>
                </a:cubicBezTo>
                <a:cubicBezTo>
                  <a:pt x="2931" y="8869"/>
                  <a:pt x="2919" y="8837"/>
                  <a:pt x="2977" y="87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8880" y="3178080"/>
            <a:ext cx="9360" cy="28800"/>
          </a:xfrm>
          <a:custGeom>
            <a:avLst/>
            <a:gdLst/>
            <a:ahLst/>
            <a:rect l="l" t="t" r="r" b="b"/>
            <a:pathLst>
              <a:path w="26" h="76">
                <a:moveTo>
                  <a:pt x="2108" y="8830"/>
                </a:moveTo>
                <a:cubicBezTo>
                  <a:pt x="2108" y="8875"/>
                  <a:pt x="2095" y="8892"/>
                  <a:pt x="2133" y="89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120" y="3348000"/>
            <a:ext cx="71640" cy="117360"/>
          </a:xfrm>
          <a:custGeom>
            <a:avLst/>
            <a:gdLst/>
            <a:ahLst/>
            <a:rect l="l" t="t" r="r" b="b"/>
            <a:pathLst>
              <a:path w="199" h="323">
                <a:moveTo>
                  <a:pt x="1141" y="9302"/>
                </a:moveTo>
                <a:cubicBezTo>
                  <a:pt x="1228" y="9364"/>
                  <a:pt x="1338" y="9495"/>
                  <a:pt x="1339" y="9624"/>
                </a:cubicBezTo>
                <a:cubicBezTo>
                  <a:pt x="1305" y="9624"/>
                  <a:pt x="1292" y="9615"/>
                  <a:pt x="1290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3330720"/>
            <a:ext cx="63360" cy="161640"/>
          </a:xfrm>
          <a:custGeom>
            <a:avLst/>
            <a:gdLst/>
            <a:ahLst/>
            <a:rect l="l" t="t" r="r" b="b"/>
            <a:pathLst>
              <a:path w="174" h="448">
                <a:moveTo>
                  <a:pt x="1364" y="9252"/>
                </a:moveTo>
                <a:cubicBezTo>
                  <a:pt x="1353" y="9420"/>
                  <a:pt x="1336" y="9569"/>
                  <a:pt x="1215" y="9699"/>
                </a:cubicBezTo>
                <a:cubicBezTo>
                  <a:pt x="1187" y="9699"/>
                  <a:pt x="1182" y="9696"/>
                  <a:pt x="1215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84200" y="3027240"/>
            <a:ext cx="115920" cy="27000"/>
          </a:xfrm>
          <a:custGeom>
            <a:avLst/>
            <a:gdLst/>
            <a:ahLst/>
            <a:rect l="l" t="t" r="r" b="b"/>
            <a:pathLst>
              <a:path w="323" h="75">
                <a:moveTo>
                  <a:pt x="3845" y="8483"/>
                </a:moveTo>
                <a:cubicBezTo>
                  <a:pt x="3959" y="8426"/>
                  <a:pt x="4037" y="8409"/>
                  <a:pt x="4167" y="84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8120" y="2973240"/>
            <a:ext cx="177840" cy="162000"/>
          </a:xfrm>
          <a:custGeom>
            <a:avLst/>
            <a:gdLst/>
            <a:ahLst/>
            <a:rect l="l" t="t" r="r" b="b"/>
            <a:pathLst>
              <a:path w="497" h="447">
                <a:moveTo>
                  <a:pt x="4465" y="8508"/>
                </a:moveTo>
                <a:cubicBezTo>
                  <a:pt x="4507" y="8615"/>
                  <a:pt x="4518" y="8639"/>
                  <a:pt x="4539" y="8706"/>
                </a:cubicBezTo>
                <a:cubicBezTo>
                  <a:pt x="4539" y="8544"/>
                  <a:pt x="4583" y="8376"/>
                  <a:pt x="4738" y="8285"/>
                </a:cubicBezTo>
                <a:cubicBezTo>
                  <a:pt x="4853" y="8262"/>
                  <a:pt x="4885" y="8253"/>
                  <a:pt x="4961" y="82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70000" y="3259080"/>
            <a:ext cx="108000" cy="17928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3249" y="9128"/>
                </a:moveTo>
                <a:cubicBezTo>
                  <a:pt x="3345" y="9049"/>
                  <a:pt x="3459" y="8987"/>
                  <a:pt x="3522" y="9153"/>
                </a:cubicBezTo>
                <a:cubicBezTo>
                  <a:pt x="3602" y="9363"/>
                  <a:pt x="3506" y="9544"/>
                  <a:pt x="3299" y="9525"/>
                </a:cubicBezTo>
                <a:cubicBezTo>
                  <a:pt x="3265" y="9405"/>
                  <a:pt x="3407" y="9430"/>
                  <a:pt x="3497" y="9475"/>
                </a:cubicBezTo>
                <a:cubicBezTo>
                  <a:pt x="3514" y="9492"/>
                  <a:pt x="3530" y="9508"/>
                  <a:pt x="3547" y="95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2200" y="1741320"/>
            <a:ext cx="8331120" cy="3714840"/>
          </a:xfrm>
          <a:custGeom>
            <a:avLst/>
            <a:gdLst/>
            <a:ahLst/>
            <a:rect l="l" t="t" r="r" b="b"/>
            <a:pathLst>
              <a:path w="23144" h="10320">
                <a:moveTo>
                  <a:pt x="893" y="10368"/>
                </a:moveTo>
                <a:cubicBezTo>
                  <a:pt x="1140" y="10237"/>
                  <a:pt x="1459" y="10180"/>
                  <a:pt x="1736" y="10145"/>
                </a:cubicBezTo>
                <a:cubicBezTo>
                  <a:pt x="2232" y="10083"/>
                  <a:pt x="2729" y="10044"/>
                  <a:pt x="3225" y="9971"/>
                </a:cubicBezTo>
                <a:cubicBezTo>
                  <a:pt x="3344" y="9954"/>
                  <a:pt x="3436" y="9950"/>
                  <a:pt x="3547" y="9922"/>
                </a:cubicBezTo>
              </a:path>
              <a:path w="23144" h="10320">
                <a:moveTo>
                  <a:pt x="4341" y="10269"/>
                </a:moveTo>
                <a:cubicBezTo>
                  <a:pt x="4452" y="10232"/>
                  <a:pt x="4557" y="10192"/>
                  <a:pt x="4663" y="10145"/>
                </a:cubicBezTo>
              </a:path>
              <a:path w="23144" h="10320">
                <a:moveTo>
                  <a:pt x="4440" y="10418"/>
                </a:moveTo>
                <a:cubicBezTo>
                  <a:pt x="4531" y="10401"/>
                  <a:pt x="4621" y="10371"/>
                  <a:pt x="4713" y="10344"/>
                </a:cubicBezTo>
              </a:path>
              <a:path w="23144" h="10320">
                <a:moveTo>
                  <a:pt x="5531" y="10046"/>
                </a:moveTo>
                <a:cubicBezTo>
                  <a:pt x="5531" y="9953"/>
                  <a:pt x="5499" y="9864"/>
                  <a:pt x="5383" y="9872"/>
                </a:cubicBezTo>
                <a:cubicBezTo>
                  <a:pt x="5222" y="9883"/>
                  <a:pt x="4918" y="10213"/>
                  <a:pt x="5184" y="10319"/>
                </a:cubicBezTo>
                <a:cubicBezTo>
                  <a:pt x="5341" y="10293"/>
                  <a:pt x="5396" y="10279"/>
                  <a:pt x="5457" y="10170"/>
                </a:cubicBezTo>
              </a:path>
              <a:path w="23144" h="10320">
                <a:moveTo>
                  <a:pt x="5358" y="9475"/>
                </a:moveTo>
                <a:cubicBezTo>
                  <a:pt x="5443" y="9717"/>
                  <a:pt x="5553" y="9968"/>
                  <a:pt x="5606" y="10220"/>
                </a:cubicBezTo>
                <a:cubicBezTo>
                  <a:pt x="5606" y="10245"/>
                  <a:pt x="5606" y="10269"/>
                  <a:pt x="5606" y="10294"/>
                </a:cubicBezTo>
              </a:path>
              <a:path w="23144" h="10320">
                <a:moveTo>
                  <a:pt x="1786" y="10393"/>
                </a:moveTo>
                <a:cubicBezTo>
                  <a:pt x="1729" y="10431"/>
                  <a:pt x="1766" y="10394"/>
                  <a:pt x="1786" y="10368"/>
                </a:cubicBezTo>
                <a:cubicBezTo>
                  <a:pt x="1955" y="10537"/>
                  <a:pt x="1848" y="10731"/>
                  <a:pt x="1687" y="10889"/>
                </a:cubicBezTo>
                <a:cubicBezTo>
                  <a:pt x="1597" y="10943"/>
                  <a:pt x="1596" y="10968"/>
                  <a:pt x="1538" y="10964"/>
                </a:cubicBezTo>
                <a:cubicBezTo>
                  <a:pt x="1510" y="10797"/>
                  <a:pt x="1597" y="10718"/>
                  <a:pt x="1786" y="10790"/>
                </a:cubicBezTo>
                <a:cubicBezTo>
                  <a:pt x="1857" y="10817"/>
                  <a:pt x="1920" y="10882"/>
                  <a:pt x="1960" y="10939"/>
                </a:cubicBezTo>
              </a:path>
              <a:path w="23144" h="10320">
                <a:moveTo>
                  <a:pt x="2679" y="10368"/>
                </a:moveTo>
                <a:cubicBezTo>
                  <a:pt x="2670" y="10370"/>
                  <a:pt x="2462" y="10409"/>
                  <a:pt x="2456" y="10418"/>
                </a:cubicBezTo>
                <a:cubicBezTo>
                  <a:pt x="2423" y="10473"/>
                  <a:pt x="2415" y="10555"/>
                  <a:pt x="2406" y="10616"/>
                </a:cubicBezTo>
                <a:cubicBezTo>
                  <a:pt x="2504" y="10603"/>
                  <a:pt x="2653" y="10515"/>
                  <a:pt x="2729" y="10616"/>
                </a:cubicBezTo>
                <a:cubicBezTo>
                  <a:pt x="2831" y="10751"/>
                  <a:pt x="2563" y="10949"/>
                  <a:pt x="2456" y="10889"/>
                </a:cubicBezTo>
                <a:cubicBezTo>
                  <a:pt x="2448" y="10856"/>
                  <a:pt x="2439" y="10823"/>
                  <a:pt x="2431" y="10790"/>
                </a:cubicBezTo>
              </a:path>
              <a:path w="23144" h="10320">
                <a:moveTo>
                  <a:pt x="3026" y="10368"/>
                </a:moveTo>
                <a:cubicBezTo>
                  <a:pt x="2950" y="10552"/>
                  <a:pt x="2926" y="10582"/>
                  <a:pt x="2977" y="10765"/>
                </a:cubicBezTo>
                <a:cubicBezTo>
                  <a:pt x="3173" y="10728"/>
                  <a:pt x="3414" y="10622"/>
                  <a:pt x="3249" y="10368"/>
                </a:cubicBezTo>
                <a:cubicBezTo>
                  <a:pt x="3203" y="10297"/>
                  <a:pt x="3073" y="10294"/>
                  <a:pt x="3101" y="10294"/>
                </a:cubicBezTo>
              </a:path>
              <a:path w="23144" h="10320">
                <a:moveTo>
                  <a:pt x="3572" y="12452"/>
                </a:moveTo>
                <a:cubicBezTo>
                  <a:pt x="3692" y="12370"/>
                  <a:pt x="3711" y="12343"/>
                  <a:pt x="3845" y="12353"/>
                </a:cubicBezTo>
                <a:cubicBezTo>
                  <a:pt x="3829" y="12453"/>
                  <a:pt x="3810" y="12495"/>
                  <a:pt x="3746" y="12576"/>
                </a:cubicBezTo>
                <a:cubicBezTo>
                  <a:pt x="3853" y="12576"/>
                  <a:pt x="3830" y="12725"/>
                  <a:pt x="3795" y="12799"/>
                </a:cubicBezTo>
                <a:cubicBezTo>
                  <a:pt x="3706" y="12985"/>
                  <a:pt x="3511" y="13044"/>
                  <a:pt x="3373" y="12923"/>
                </a:cubicBezTo>
                <a:cubicBezTo>
                  <a:pt x="3494" y="12852"/>
                  <a:pt x="3520" y="12894"/>
                  <a:pt x="3646" y="12923"/>
                </a:cubicBezTo>
                <a:cubicBezTo>
                  <a:pt x="3663" y="12923"/>
                  <a:pt x="3679" y="12923"/>
                  <a:pt x="3696" y="12923"/>
                </a:cubicBezTo>
              </a:path>
              <a:path w="23144" h="10320">
                <a:moveTo>
                  <a:pt x="3994" y="12849"/>
                </a:moveTo>
                <a:cubicBezTo>
                  <a:pt x="4002" y="12849"/>
                  <a:pt x="4010" y="12849"/>
                  <a:pt x="4018" y="12849"/>
                </a:cubicBezTo>
              </a:path>
              <a:path w="23144" h="10320">
                <a:moveTo>
                  <a:pt x="4018" y="12849"/>
                </a:moveTo>
                <a:lnTo>
                  <a:pt x="4018" y="12849"/>
                </a:lnTo>
              </a:path>
              <a:path w="23144" h="10320">
                <a:moveTo>
                  <a:pt x="4440" y="12278"/>
                </a:moveTo>
                <a:cubicBezTo>
                  <a:pt x="4421" y="12462"/>
                  <a:pt x="4373" y="12640"/>
                  <a:pt x="4341" y="12824"/>
                </a:cubicBezTo>
                <a:cubicBezTo>
                  <a:pt x="4332" y="12877"/>
                  <a:pt x="4374" y="12777"/>
                  <a:pt x="4390" y="12725"/>
                </a:cubicBezTo>
              </a:path>
              <a:path w="23144" h="10320">
                <a:moveTo>
                  <a:pt x="4787" y="12353"/>
                </a:moveTo>
                <a:cubicBezTo>
                  <a:pt x="4765" y="12442"/>
                  <a:pt x="4764" y="12467"/>
                  <a:pt x="4713" y="12502"/>
                </a:cubicBezTo>
                <a:cubicBezTo>
                  <a:pt x="4789" y="12596"/>
                  <a:pt x="4910" y="12593"/>
                  <a:pt x="5035" y="12601"/>
                </a:cubicBezTo>
              </a:path>
              <a:path w="23144" h="10320">
                <a:moveTo>
                  <a:pt x="5135" y="12005"/>
                </a:moveTo>
                <a:cubicBezTo>
                  <a:pt x="5079" y="12255"/>
                  <a:pt x="5058" y="12528"/>
                  <a:pt x="4986" y="12774"/>
                </a:cubicBezTo>
                <a:cubicBezTo>
                  <a:pt x="4949" y="12848"/>
                  <a:pt x="4932" y="12852"/>
                  <a:pt x="4936" y="12898"/>
                </a:cubicBezTo>
              </a:path>
              <a:path w="23144" h="10320">
                <a:moveTo>
                  <a:pt x="2406" y="13097"/>
                </a:moveTo>
                <a:cubicBezTo>
                  <a:pt x="2482" y="13274"/>
                  <a:pt x="2559" y="13455"/>
                  <a:pt x="2604" y="13643"/>
                </a:cubicBezTo>
                <a:cubicBezTo>
                  <a:pt x="2604" y="13684"/>
                  <a:pt x="2604" y="13675"/>
                  <a:pt x="2604" y="13593"/>
                </a:cubicBezTo>
              </a:path>
              <a:path w="23144" h="10320">
                <a:moveTo>
                  <a:pt x="2679" y="13022"/>
                </a:moveTo>
                <a:cubicBezTo>
                  <a:pt x="2585" y="13235"/>
                  <a:pt x="2521" y="13453"/>
                  <a:pt x="2431" y="13667"/>
                </a:cubicBezTo>
              </a:path>
              <a:path w="23144" h="10320">
                <a:moveTo>
                  <a:pt x="4142" y="13196"/>
                </a:moveTo>
                <a:cubicBezTo>
                  <a:pt x="4091" y="13217"/>
                  <a:pt x="4061" y="13282"/>
                  <a:pt x="4043" y="13246"/>
                </a:cubicBezTo>
                <a:cubicBezTo>
                  <a:pt x="4138" y="13140"/>
                  <a:pt x="4282" y="13077"/>
                  <a:pt x="4266" y="13320"/>
                </a:cubicBezTo>
                <a:cubicBezTo>
                  <a:pt x="4255" y="13484"/>
                  <a:pt x="4109" y="13752"/>
                  <a:pt x="3919" y="13692"/>
                </a:cubicBezTo>
                <a:cubicBezTo>
                  <a:pt x="3911" y="13684"/>
                  <a:pt x="3902" y="13675"/>
                  <a:pt x="3894" y="13667"/>
                </a:cubicBezTo>
                <a:cubicBezTo>
                  <a:pt x="3951" y="13543"/>
                  <a:pt x="4033" y="13481"/>
                  <a:pt x="4167" y="13593"/>
                </a:cubicBezTo>
                <a:cubicBezTo>
                  <a:pt x="4211" y="13630"/>
                  <a:pt x="4301" y="13774"/>
                  <a:pt x="4266" y="13791"/>
                </a:cubicBezTo>
              </a:path>
              <a:path w="23144" h="10320">
                <a:moveTo>
                  <a:pt x="4539" y="13643"/>
                </a:moveTo>
                <a:cubicBezTo>
                  <a:pt x="4539" y="13706"/>
                  <a:pt x="4520" y="13699"/>
                  <a:pt x="4589" y="13643"/>
                </a:cubicBezTo>
              </a:path>
              <a:path w="23144" h="10320">
                <a:moveTo>
                  <a:pt x="5135" y="13122"/>
                </a:moveTo>
                <a:cubicBezTo>
                  <a:pt x="5085" y="13130"/>
                  <a:pt x="4964" y="13129"/>
                  <a:pt x="4936" y="13171"/>
                </a:cubicBezTo>
                <a:cubicBezTo>
                  <a:pt x="4887" y="13271"/>
                  <a:pt x="4871" y="13304"/>
                  <a:pt x="4837" y="13370"/>
                </a:cubicBezTo>
                <a:cubicBezTo>
                  <a:pt x="4919" y="13370"/>
                  <a:pt x="5035" y="13311"/>
                  <a:pt x="5110" y="13345"/>
                </a:cubicBezTo>
                <a:cubicBezTo>
                  <a:pt x="5293" y="13428"/>
                  <a:pt x="5092" y="13667"/>
                  <a:pt x="4961" y="13667"/>
                </a:cubicBezTo>
                <a:cubicBezTo>
                  <a:pt x="4902" y="13628"/>
                  <a:pt x="4890" y="13624"/>
                  <a:pt x="4862" y="13593"/>
                </a:cubicBezTo>
              </a:path>
              <a:path w="23144" h="10320">
                <a:moveTo>
                  <a:pt x="4018" y="12849"/>
                </a:moveTo>
                <a:cubicBezTo>
                  <a:pt x="4047" y="12877"/>
                  <a:pt x="3992" y="12914"/>
                  <a:pt x="4043" y="12948"/>
                </a:cubicBezTo>
                <a:cubicBezTo>
                  <a:pt x="4086" y="12926"/>
                  <a:pt x="4095" y="12925"/>
                  <a:pt x="4068" y="12898"/>
                </a:cubicBezTo>
              </a:path>
              <a:path w="23144" h="10320">
                <a:moveTo>
                  <a:pt x="4217" y="11633"/>
                </a:moveTo>
                <a:cubicBezTo>
                  <a:pt x="4195" y="11700"/>
                  <a:pt x="4241" y="11627"/>
                  <a:pt x="4266" y="11584"/>
                </a:cubicBezTo>
                <a:cubicBezTo>
                  <a:pt x="4278" y="11563"/>
                  <a:pt x="4349" y="11492"/>
                  <a:pt x="4390" y="11534"/>
                </a:cubicBezTo>
                <a:cubicBezTo>
                  <a:pt x="4437" y="11583"/>
                  <a:pt x="4477" y="11679"/>
                  <a:pt x="4465" y="11757"/>
                </a:cubicBezTo>
                <a:cubicBezTo>
                  <a:pt x="4450" y="11855"/>
                  <a:pt x="4258" y="11932"/>
                  <a:pt x="4167" y="11956"/>
                </a:cubicBezTo>
                <a:cubicBezTo>
                  <a:pt x="4093" y="11975"/>
                  <a:pt x="4081" y="11958"/>
                  <a:pt x="4068" y="11906"/>
                </a:cubicBezTo>
                <a:cubicBezTo>
                  <a:pt x="4015" y="11836"/>
                  <a:pt x="4099" y="11827"/>
                  <a:pt x="4167" y="11807"/>
                </a:cubicBezTo>
                <a:cubicBezTo>
                  <a:pt x="4246" y="11784"/>
                  <a:pt x="4340" y="11889"/>
                  <a:pt x="4415" y="11906"/>
                </a:cubicBezTo>
                <a:cubicBezTo>
                  <a:pt x="4490" y="11923"/>
                  <a:pt x="4556" y="11874"/>
                  <a:pt x="4589" y="11832"/>
                </a:cubicBezTo>
                <a:cubicBezTo>
                  <a:pt x="4597" y="11824"/>
                  <a:pt x="4606" y="11815"/>
                  <a:pt x="4614" y="11807"/>
                </a:cubicBezTo>
              </a:path>
              <a:path w="23144" h="10320">
                <a:moveTo>
                  <a:pt x="2952" y="14114"/>
                </a:moveTo>
                <a:cubicBezTo>
                  <a:pt x="2952" y="14015"/>
                  <a:pt x="2960" y="14263"/>
                  <a:pt x="2952" y="14362"/>
                </a:cubicBezTo>
                <a:cubicBezTo>
                  <a:pt x="2942" y="14478"/>
                  <a:pt x="2902" y="14777"/>
                  <a:pt x="2902" y="14660"/>
                </a:cubicBezTo>
              </a:path>
              <a:path w="23144" h="10320">
                <a:moveTo>
                  <a:pt x="3646" y="14089"/>
                </a:moveTo>
                <a:cubicBezTo>
                  <a:pt x="3588" y="14094"/>
                  <a:pt x="3390" y="14084"/>
                  <a:pt x="3349" y="14114"/>
                </a:cubicBezTo>
                <a:cubicBezTo>
                  <a:pt x="3304" y="14147"/>
                  <a:pt x="3324" y="14286"/>
                  <a:pt x="3324" y="14337"/>
                </a:cubicBezTo>
                <a:cubicBezTo>
                  <a:pt x="3324" y="14345"/>
                  <a:pt x="3324" y="14354"/>
                  <a:pt x="3324" y="14362"/>
                </a:cubicBezTo>
                <a:cubicBezTo>
                  <a:pt x="3378" y="14308"/>
                  <a:pt x="3435" y="14238"/>
                  <a:pt x="3522" y="14263"/>
                </a:cubicBezTo>
                <a:cubicBezTo>
                  <a:pt x="3668" y="14306"/>
                  <a:pt x="3593" y="14466"/>
                  <a:pt x="3497" y="14511"/>
                </a:cubicBezTo>
                <a:cubicBezTo>
                  <a:pt x="3425" y="14545"/>
                  <a:pt x="3350" y="14536"/>
                  <a:pt x="3274" y="14536"/>
                </a:cubicBezTo>
              </a:path>
              <a:path w="23144" h="10320">
                <a:moveTo>
                  <a:pt x="4837" y="14883"/>
                </a:moveTo>
                <a:cubicBezTo>
                  <a:pt x="4817" y="14822"/>
                  <a:pt x="4733" y="14917"/>
                  <a:pt x="4713" y="14957"/>
                </a:cubicBezTo>
                <a:cubicBezTo>
                  <a:pt x="4670" y="15043"/>
                  <a:pt x="4700" y="15076"/>
                  <a:pt x="4713" y="15156"/>
                </a:cubicBezTo>
                <a:cubicBezTo>
                  <a:pt x="4868" y="15104"/>
                  <a:pt x="4917" y="15078"/>
                  <a:pt x="4936" y="14908"/>
                </a:cubicBezTo>
                <a:cubicBezTo>
                  <a:pt x="4941" y="14862"/>
                  <a:pt x="4891" y="14855"/>
                  <a:pt x="4862" y="14833"/>
                </a:cubicBezTo>
              </a:path>
              <a:path w="23144" h="10320">
                <a:moveTo>
                  <a:pt x="2208" y="14436"/>
                </a:moveTo>
                <a:cubicBezTo>
                  <a:pt x="2156" y="14561"/>
                  <a:pt x="2125" y="14672"/>
                  <a:pt x="2108" y="14808"/>
                </a:cubicBezTo>
              </a:path>
              <a:path w="23144" h="10320">
                <a:moveTo>
                  <a:pt x="1984" y="14684"/>
                </a:moveTo>
                <a:cubicBezTo>
                  <a:pt x="2059" y="14684"/>
                  <a:pt x="2133" y="14684"/>
                  <a:pt x="2208" y="14684"/>
                </a:cubicBezTo>
              </a:path>
              <a:path w="23144" h="10320">
                <a:moveTo>
                  <a:pt x="3497" y="13667"/>
                </a:moveTo>
                <a:cubicBezTo>
                  <a:pt x="3497" y="13761"/>
                  <a:pt x="3515" y="13847"/>
                  <a:pt x="3522" y="13940"/>
                </a:cubicBezTo>
              </a:path>
              <a:path w="23144" h="10320">
                <a:moveTo>
                  <a:pt x="11881" y="8359"/>
                </a:moveTo>
                <a:cubicBezTo>
                  <a:pt x="11881" y="8351"/>
                  <a:pt x="11881" y="8342"/>
                  <a:pt x="11881" y="8334"/>
                </a:cubicBezTo>
              </a:path>
              <a:path w="23144" h="10320">
                <a:moveTo>
                  <a:pt x="18554" y="5308"/>
                </a:moveTo>
                <a:cubicBezTo>
                  <a:pt x="18554" y="5333"/>
                  <a:pt x="18554" y="5341"/>
                  <a:pt x="18579" y="5333"/>
                </a:cubicBezTo>
              </a:path>
              <a:path w="23144" h="10320">
                <a:moveTo>
                  <a:pt x="17338" y="6152"/>
                </a:moveTo>
                <a:cubicBezTo>
                  <a:pt x="17429" y="6120"/>
                  <a:pt x="17569" y="6049"/>
                  <a:pt x="17636" y="6028"/>
                </a:cubicBezTo>
              </a:path>
              <a:path w="23144" h="10320">
                <a:moveTo>
                  <a:pt x="19149" y="7094"/>
                </a:moveTo>
                <a:cubicBezTo>
                  <a:pt x="19157" y="7111"/>
                  <a:pt x="19166" y="7127"/>
                  <a:pt x="19174" y="7144"/>
                </a:cubicBezTo>
              </a:path>
              <a:path w="23144" h="10320">
                <a:moveTo>
                  <a:pt x="21952" y="5854"/>
                </a:moveTo>
                <a:cubicBezTo>
                  <a:pt x="22019" y="5825"/>
                  <a:pt x="22105" y="5769"/>
                  <a:pt x="22175" y="5730"/>
                </a:cubicBezTo>
              </a:path>
              <a:path w="23144" h="10320">
                <a:moveTo>
                  <a:pt x="21952" y="6102"/>
                </a:moveTo>
                <a:cubicBezTo>
                  <a:pt x="22145" y="6030"/>
                  <a:pt x="22206" y="6010"/>
                  <a:pt x="22299" y="5904"/>
                </a:cubicBezTo>
              </a:path>
              <a:path w="23144" h="10320">
                <a:moveTo>
                  <a:pt x="22299" y="5904"/>
                </a:moveTo>
                <a:lnTo>
                  <a:pt x="22299" y="5904"/>
                </a:lnTo>
              </a:path>
              <a:path w="23144" h="10320">
                <a:moveTo>
                  <a:pt x="24036" y="4837"/>
                </a:moveTo>
                <a:lnTo>
                  <a:pt x="24036" y="483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3120" y="2670120"/>
            <a:ext cx="1330560" cy="1214640"/>
          </a:xfrm>
          <a:custGeom>
            <a:avLst/>
            <a:gdLst/>
            <a:ahLst/>
            <a:rect l="l" t="t" r="r" b="b"/>
            <a:pathLst>
              <a:path w="3697" h="3374">
                <a:moveTo>
                  <a:pt x="12526" y="7417"/>
                </a:moveTo>
                <a:cubicBezTo>
                  <a:pt x="12432" y="7421"/>
                  <a:pt x="12346" y="7423"/>
                  <a:pt x="12254" y="7441"/>
                </a:cubicBezTo>
                <a:cubicBezTo>
                  <a:pt x="12197" y="7452"/>
                  <a:pt x="12136" y="7495"/>
                  <a:pt x="12080" y="7516"/>
                </a:cubicBezTo>
                <a:cubicBezTo>
                  <a:pt x="12005" y="7543"/>
                  <a:pt x="11953" y="7555"/>
                  <a:pt x="11881" y="7590"/>
                </a:cubicBezTo>
                <a:cubicBezTo>
                  <a:pt x="11801" y="7629"/>
                  <a:pt x="11701" y="7670"/>
                  <a:pt x="11633" y="7714"/>
                </a:cubicBezTo>
                <a:cubicBezTo>
                  <a:pt x="11589" y="7742"/>
                  <a:pt x="11553" y="7785"/>
                  <a:pt x="11509" y="7813"/>
                </a:cubicBezTo>
                <a:cubicBezTo>
                  <a:pt x="11439" y="7858"/>
                  <a:pt x="11379" y="7916"/>
                  <a:pt x="11311" y="7962"/>
                </a:cubicBezTo>
                <a:cubicBezTo>
                  <a:pt x="11227" y="8020"/>
                  <a:pt x="11169" y="8069"/>
                  <a:pt x="11088" y="8136"/>
                </a:cubicBezTo>
                <a:cubicBezTo>
                  <a:pt x="10999" y="8210"/>
                  <a:pt x="10959" y="8271"/>
                  <a:pt x="10889" y="8359"/>
                </a:cubicBezTo>
                <a:cubicBezTo>
                  <a:pt x="10819" y="8447"/>
                  <a:pt x="10760" y="8516"/>
                  <a:pt x="10716" y="8607"/>
                </a:cubicBezTo>
                <a:cubicBezTo>
                  <a:pt x="10656" y="8730"/>
                  <a:pt x="10639" y="8848"/>
                  <a:pt x="10616" y="8979"/>
                </a:cubicBezTo>
                <a:cubicBezTo>
                  <a:pt x="10595" y="9102"/>
                  <a:pt x="10600" y="9157"/>
                  <a:pt x="10616" y="9277"/>
                </a:cubicBezTo>
                <a:cubicBezTo>
                  <a:pt x="10629" y="9379"/>
                  <a:pt x="10647" y="9474"/>
                  <a:pt x="10666" y="9575"/>
                </a:cubicBezTo>
                <a:cubicBezTo>
                  <a:pt x="10680" y="9652"/>
                  <a:pt x="10728" y="9724"/>
                  <a:pt x="10740" y="9798"/>
                </a:cubicBezTo>
                <a:cubicBezTo>
                  <a:pt x="10758" y="9906"/>
                  <a:pt x="10769" y="9967"/>
                  <a:pt x="10815" y="10071"/>
                </a:cubicBezTo>
                <a:cubicBezTo>
                  <a:pt x="10844" y="10137"/>
                  <a:pt x="10893" y="10205"/>
                  <a:pt x="10939" y="10269"/>
                </a:cubicBezTo>
                <a:cubicBezTo>
                  <a:pt x="11015" y="10374"/>
                  <a:pt x="11070" y="10449"/>
                  <a:pt x="11187" y="10517"/>
                </a:cubicBezTo>
                <a:cubicBezTo>
                  <a:pt x="11256" y="10557"/>
                  <a:pt x="11359" y="10591"/>
                  <a:pt x="11435" y="10616"/>
                </a:cubicBezTo>
                <a:cubicBezTo>
                  <a:pt x="11515" y="10642"/>
                  <a:pt x="11595" y="10631"/>
                  <a:pt x="11683" y="10641"/>
                </a:cubicBezTo>
                <a:cubicBezTo>
                  <a:pt x="11799" y="10654"/>
                  <a:pt x="11913" y="10698"/>
                  <a:pt x="12030" y="10716"/>
                </a:cubicBezTo>
                <a:cubicBezTo>
                  <a:pt x="12179" y="10740"/>
                  <a:pt x="12326" y="10763"/>
                  <a:pt x="12477" y="10765"/>
                </a:cubicBezTo>
                <a:cubicBezTo>
                  <a:pt x="12622" y="10767"/>
                  <a:pt x="12750" y="10761"/>
                  <a:pt x="12898" y="10740"/>
                </a:cubicBezTo>
                <a:cubicBezTo>
                  <a:pt x="13030" y="10722"/>
                  <a:pt x="13145" y="10689"/>
                  <a:pt x="13271" y="10641"/>
                </a:cubicBezTo>
                <a:cubicBezTo>
                  <a:pt x="13421" y="10584"/>
                  <a:pt x="13550" y="10499"/>
                  <a:pt x="13692" y="10418"/>
                </a:cubicBezTo>
                <a:cubicBezTo>
                  <a:pt x="13836" y="10335"/>
                  <a:pt x="13933" y="10223"/>
                  <a:pt x="14039" y="10096"/>
                </a:cubicBezTo>
                <a:cubicBezTo>
                  <a:pt x="14182" y="9925"/>
                  <a:pt x="14228" y="9793"/>
                  <a:pt x="14263" y="9575"/>
                </a:cubicBezTo>
                <a:cubicBezTo>
                  <a:pt x="14283" y="9450"/>
                  <a:pt x="14297" y="9332"/>
                  <a:pt x="14288" y="9203"/>
                </a:cubicBezTo>
                <a:cubicBezTo>
                  <a:pt x="14280" y="9097"/>
                  <a:pt x="14249" y="8955"/>
                  <a:pt x="14213" y="8855"/>
                </a:cubicBezTo>
                <a:cubicBezTo>
                  <a:pt x="14155" y="8693"/>
                  <a:pt x="13996" y="8515"/>
                  <a:pt x="13866" y="8409"/>
                </a:cubicBezTo>
                <a:cubicBezTo>
                  <a:pt x="13521" y="8128"/>
                  <a:pt x="13099" y="7894"/>
                  <a:pt x="12675" y="7764"/>
                </a:cubicBezTo>
                <a:cubicBezTo>
                  <a:pt x="12432" y="7690"/>
                  <a:pt x="12208" y="7647"/>
                  <a:pt x="11956" y="7640"/>
                </a:cubicBezTo>
                <a:cubicBezTo>
                  <a:pt x="11948" y="7640"/>
                  <a:pt x="11939" y="7640"/>
                  <a:pt x="11931" y="7640"/>
                </a:cubicBezTo>
              </a:path>
              <a:path w="3697" h="3374">
                <a:moveTo>
                  <a:pt x="12551" y="9252"/>
                </a:moveTo>
                <a:cubicBezTo>
                  <a:pt x="12514" y="9247"/>
                  <a:pt x="12479" y="9232"/>
                  <a:pt x="12452" y="9227"/>
                </a:cubicBezTo>
                <a:cubicBezTo>
                  <a:pt x="12428" y="9223"/>
                  <a:pt x="12402" y="9230"/>
                  <a:pt x="12378" y="9227"/>
                </a:cubicBezTo>
                <a:cubicBezTo>
                  <a:pt x="12369" y="9221"/>
                  <a:pt x="12336" y="9184"/>
                  <a:pt x="12328" y="9178"/>
                </a:cubicBezTo>
                <a:cubicBezTo>
                  <a:pt x="12303" y="9178"/>
                  <a:pt x="12279" y="9178"/>
                  <a:pt x="12254" y="9178"/>
                </a:cubicBezTo>
                <a:cubicBezTo>
                  <a:pt x="12231" y="9158"/>
                  <a:pt x="12193" y="9122"/>
                  <a:pt x="12154" y="9103"/>
                </a:cubicBezTo>
                <a:cubicBezTo>
                  <a:pt x="12115" y="9084"/>
                  <a:pt x="12121" y="9089"/>
                  <a:pt x="12080" y="9079"/>
                </a:cubicBezTo>
                <a:cubicBezTo>
                  <a:pt x="12069" y="9070"/>
                  <a:pt x="11999" y="9025"/>
                  <a:pt x="11981" y="9004"/>
                </a:cubicBezTo>
                <a:cubicBezTo>
                  <a:pt x="11981" y="8996"/>
                  <a:pt x="11981" y="8987"/>
                  <a:pt x="11981" y="8979"/>
                </a:cubicBezTo>
                <a:cubicBezTo>
                  <a:pt x="11920" y="8962"/>
                  <a:pt x="11927" y="8950"/>
                  <a:pt x="11857" y="8930"/>
                </a:cubicBezTo>
                <a:cubicBezTo>
                  <a:pt x="11826" y="8899"/>
                  <a:pt x="11844" y="8888"/>
                  <a:pt x="11782" y="8855"/>
                </a:cubicBezTo>
                <a:cubicBezTo>
                  <a:pt x="11742" y="8835"/>
                  <a:pt x="11726" y="8837"/>
                  <a:pt x="11733" y="8806"/>
                </a:cubicBezTo>
                <a:cubicBezTo>
                  <a:pt x="11662" y="8786"/>
                  <a:pt x="11699" y="8775"/>
                  <a:pt x="11633" y="8731"/>
                </a:cubicBezTo>
                <a:cubicBezTo>
                  <a:pt x="11596" y="8706"/>
                  <a:pt x="11584" y="8692"/>
                  <a:pt x="11559" y="8657"/>
                </a:cubicBezTo>
                <a:cubicBezTo>
                  <a:pt x="11502" y="8640"/>
                  <a:pt x="11513" y="8634"/>
                  <a:pt x="11460" y="8607"/>
                </a:cubicBezTo>
                <a:cubicBezTo>
                  <a:pt x="11420" y="8560"/>
                  <a:pt x="11464" y="8580"/>
                  <a:pt x="11385" y="8558"/>
                </a:cubicBezTo>
                <a:cubicBezTo>
                  <a:pt x="11369" y="8542"/>
                  <a:pt x="11345" y="8507"/>
                  <a:pt x="11311" y="8483"/>
                </a:cubicBezTo>
                <a:cubicBezTo>
                  <a:pt x="11271" y="8463"/>
                  <a:pt x="11254" y="8465"/>
                  <a:pt x="11261" y="8434"/>
                </a:cubicBezTo>
                <a:cubicBezTo>
                  <a:pt x="11241" y="8419"/>
                  <a:pt x="11232" y="8424"/>
                  <a:pt x="11212" y="8409"/>
                </a:cubicBezTo>
                <a:cubicBezTo>
                  <a:pt x="11196" y="8388"/>
                  <a:pt x="11202" y="8380"/>
                  <a:pt x="11187" y="8359"/>
                </a:cubicBezTo>
                <a:cubicBezTo>
                  <a:pt x="11159" y="8343"/>
                  <a:pt x="11086" y="8314"/>
                  <a:pt x="11063" y="8285"/>
                </a:cubicBezTo>
                <a:cubicBezTo>
                  <a:pt x="11063" y="8277"/>
                  <a:pt x="11063" y="8268"/>
                  <a:pt x="11063" y="8260"/>
                </a:cubicBezTo>
                <a:cubicBezTo>
                  <a:pt x="10997" y="8251"/>
                  <a:pt x="11027" y="8259"/>
                  <a:pt x="10988" y="8235"/>
                </a:cubicBezTo>
                <a:cubicBezTo>
                  <a:pt x="10977" y="8226"/>
                  <a:pt x="10933" y="8201"/>
                  <a:pt x="10914" y="8186"/>
                </a:cubicBezTo>
                <a:cubicBezTo>
                  <a:pt x="10879" y="8157"/>
                  <a:pt x="10847" y="8132"/>
                  <a:pt x="10815" y="8111"/>
                </a:cubicBezTo>
                <a:cubicBezTo>
                  <a:pt x="10805" y="8094"/>
                  <a:pt x="10805" y="8054"/>
                  <a:pt x="10790" y="8037"/>
                </a:cubicBezTo>
                <a:cubicBezTo>
                  <a:pt x="10782" y="8037"/>
                  <a:pt x="10773" y="8037"/>
                  <a:pt x="10765" y="8037"/>
                </a:cubicBezTo>
              </a:path>
              <a:path w="3697" h="3374">
                <a:moveTo>
                  <a:pt x="11584" y="8260"/>
                </a:moveTo>
                <a:cubicBezTo>
                  <a:pt x="11584" y="8227"/>
                  <a:pt x="11584" y="8194"/>
                  <a:pt x="11584" y="8161"/>
                </a:cubicBezTo>
                <a:cubicBezTo>
                  <a:pt x="11603" y="8253"/>
                  <a:pt x="11658" y="8340"/>
                  <a:pt x="11683" y="8434"/>
                </a:cubicBezTo>
                <a:cubicBezTo>
                  <a:pt x="11694" y="8477"/>
                  <a:pt x="11664" y="8468"/>
                  <a:pt x="11708" y="8483"/>
                </a:cubicBezTo>
              </a:path>
              <a:path w="3697" h="3374">
                <a:moveTo>
                  <a:pt x="12005" y="8037"/>
                </a:moveTo>
                <a:cubicBezTo>
                  <a:pt x="11981" y="8037"/>
                  <a:pt x="11973" y="8037"/>
                  <a:pt x="11981" y="8012"/>
                </a:cubicBezTo>
                <a:cubicBezTo>
                  <a:pt x="12033" y="8012"/>
                  <a:pt x="12117" y="7990"/>
                  <a:pt x="12154" y="8037"/>
                </a:cubicBezTo>
                <a:cubicBezTo>
                  <a:pt x="12199" y="8095"/>
                  <a:pt x="12183" y="8212"/>
                  <a:pt x="12129" y="8260"/>
                </a:cubicBezTo>
                <a:cubicBezTo>
                  <a:pt x="12092" y="8294"/>
                  <a:pt x="12060" y="8232"/>
                  <a:pt x="12055" y="8210"/>
                </a:cubicBezTo>
                <a:cubicBezTo>
                  <a:pt x="12096" y="8186"/>
                  <a:pt x="12177" y="8167"/>
                  <a:pt x="12229" y="8186"/>
                </a:cubicBezTo>
                <a:cubicBezTo>
                  <a:pt x="12251" y="8208"/>
                  <a:pt x="12256" y="8216"/>
                  <a:pt x="12278" y="8210"/>
                </a:cubicBezTo>
              </a:path>
              <a:path w="3697" h="3374">
                <a:moveTo>
                  <a:pt x="12402" y="7813"/>
                </a:moveTo>
                <a:cubicBezTo>
                  <a:pt x="12345" y="7838"/>
                  <a:pt x="12305" y="7836"/>
                  <a:pt x="12328" y="7913"/>
                </a:cubicBezTo>
                <a:cubicBezTo>
                  <a:pt x="12361" y="8025"/>
                  <a:pt x="12430" y="7916"/>
                  <a:pt x="12502" y="7938"/>
                </a:cubicBezTo>
                <a:cubicBezTo>
                  <a:pt x="12546" y="7951"/>
                  <a:pt x="12569" y="8051"/>
                  <a:pt x="12576" y="8086"/>
                </a:cubicBezTo>
                <a:cubicBezTo>
                  <a:pt x="12529" y="8106"/>
                  <a:pt x="12513" y="8109"/>
                  <a:pt x="12477" y="81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43920" y="1347840"/>
            <a:ext cx="785880" cy="750960"/>
          </a:xfrm>
          <a:custGeom>
            <a:avLst/>
            <a:gdLst/>
            <a:ahLst/>
            <a:rect l="l" t="t" r="r" b="b"/>
            <a:pathLst>
              <a:path w="2184" h="2084">
                <a:moveTo>
                  <a:pt x="22622" y="5482"/>
                </a:moveTo>
                <a:cubicBezTo>
                  <a:pt x="22665" y="5565"/>
                  <a:pt x="22746" y="5865"/>
                  <a:pt x="22746" y="5779"/>
                </a:cubicBezTo>
                <a:cubicBezTo>
                  <a:pt x="22765" y="5618"/>
                  <a:pt x="22774" y="5422"/>
                  <a:pt x="22969" y="5358"/>
                </a:cubicBezTo>
                <a:cubicBezTo>
                  <a:pt x="22994" y="5358"/>
                  <a:pt x="23019" y="5358"/>
                  <a:pt x="23044" y="5358"/>
                </a:cubicBezTo>
              </a:path>
              <a:path w="2184" h="2084">
                <a:moveTo>
                  <a:pt x="23490" y="4440"/>
                </a:moveTo>
                <a:cubicBezTo>
                  <a:pt x="23462" y="4502"/>
                  <a:pt x="23372" y="4750"/>
                  <a:pt x="23465" y="4812"/>
                </a:cubicBezTo>
                <a:cubicBezTo>
                  <a:pt x="23490" y="4812"/>
                  <a:pt x="23515" y="4812"/>
                  <a:pt x="23540" y="4812"/>
                </a:cubicBezTo>
                <a:cubicBezTo>
                  <a:pt x="23540" y="4701"/>
                  <a:pt x="23451" y="4537"/>
                  <a:pt x="23490" y="4440"/>
                </a:cubicBezTo>
                <a:cubicBezTo>
                  <a:pt x="23515" y="4415"/>
                  <a:pt x="23539" y="4391"/>
                  <a:pt x="23564" y="4366"/>
                </a:cubicBezTo>
                <a:cubicBezTo>
                  <a:pt x="23768" y="4424"/>
                  <a:pt x="23721" y="4632"/>
                  <a:pt x="23837" y="4688"/>
                </a:cubicBezTo>
                <a:cubicBezTo>
                  <a:pt x="23859" y="4699"/>
                  <a:pt x="23862" y="4464"/>
                  <a:pt x="23862" y="4415"/>
                </a:cubicBezTo>
                <a:cubicBezTo>
                  <a:pt x="23877" y="4468"/>
                  <a:pt x="23968" y="4661"/>
                  <a:pt x="24061" y="4539"/>
                </a:cubicBezTo>
                <a:cubicBezTo>
                  <a:pt x="24127" y="4453"/>
                  <a:pt x="24081" y="4369"/>
                  <a:pt x="24036" y="4316"/>
                </a:cubicBezTo>
                <a:cubicBezTo>
                  <a:pt x="23989" y="4281"/>
                  <a:pt x="23986" y="4284"/>
                  <a:pt x="23986" y="4341"/>
                </a:cubicBezTo>
                <a:cubicBezTo>
                  <a:pt x="23986" y="4382"/>
                  <a:pt x="23986" y="4390"/>
                  <a:pt x="23986" y="4415"/>
                </a:cubicBezTo>
              </a:path>
              <a:path w="2184" h="2084">
                <a:moveTo>
                  <a:pt x="23937" y="3870"/>
                </a:moveTo>
                <a:cubicBezTo>
                  <a:pt x="23966" y="3953"/>
                  <a:pt x="24159" y="4317"/>
                  <a:pt x="24110" y="4415"/>
                </a:cubicBezTo>
                <a:cubicBezTo>
                  <a:pt x="24102" y="4415"/>
                  <a:pt x="24093" y="4415"/>
                  <a:pt x="24085" y="4415"/>
                </a:cubicBezTo>
              </a:path>
              <a:path w="2184" h="2084">
                <a:moveTo>
                  <a:pt x="23986" y="4266"/>
                </a:moveTo>
                <a:cubicBezTo>
                  <a:pt x="24078" y="4236"/>
                  <a:pt x="24212" y="4165"/>
                  <a:pt x="24284" y="4093"/>
                </a:cubicBezTo>
                <a:cubicBezTo>
                  <a:pt x="24306" y="4071"/>
                  <a:pt x="24326" y="4022"/>
                  <a:pt x="24333" y="3994"/>
                </a:cubicBezTo>
                <a:cubicBezTo>
                  <a:pt x="24289" y="4045"/>
                  <a:pt x="24236" y="4164"/>
                  <a:pt x="24358" y="4192"/>
                </a:cubicBezTo>
                <a:cubicBezTo>
                  <a:pt x="24517" y="4228"/>
                  <a:pt x="24502" y="4051"/>
                  <a:pt x="24557" y="3969"/>
                </a:cubicBezTo>
                <a:cubicBezTo>
                  <a:pt x="24557" y="4012"/>
                  <a:pt x="24562" y="4037"/>
                  <a:pt x="24581" y="4068"/>
                </a:cubicBezTo>
                <a:cubicBezTo>
                  <a:pt x="24599" y="3924"/>
                  <a:pt x="24629" y="3827"/>
                  <a:pt x="24755" y="3746"/>
                </a:cubicBezTo>
                <a:cubicBezTo>
                  <a:pt x="24790" y="3746"/>
                  <a:pt x="24803" y="3755"/>
                  <a:pt x="24805" y="3795"/>
                </a:cubicBezTo>
              </a:path>
              <a:path w="2184" h="2084">
                <a:moveTo>
                  <a:pt x="23961" y="5135"/>
                </a:moveTo>
                <a:cubicBezTo>
                  <a:pt x="23885" y="5135"/>
                  <a:pt x="23859" y="5117"/>
                  <a:pt x="23837" y="5234"/>
                </a:cubicBezTo>
                <a:cubicBezTo>
                  <a:pt x="23803" y="5415"/>
                  <a:pt x="24026" y="5575"/>
                  <a:pt x="24085" y="5358"/>
                </a:cubicBezTo>
                <a:cubicBezTo>
                  <a:pt x="24107" y="5278"/>
                  <a:pt x="24086" y="5129"/>
                  <a:pt x="24061" y="5060"/>
                </a:cubicBezTo>
                <a:cubicBezTo>
                  <a:pt x="24061" y="5071"/>
                  <a:pt x="24050" y="5275"/>
                  <a:pt x="24110" y="5259"/>
                </a:cubicBezTo>
                <a:cubicBezTo>
                  <a:pt x="24135" y="5242"/>
                  <a:pt x="24160" y="5226"/>
                  <a:pt x="24185" y="5209"/>
                </a:cubicBezTo>
              </a:path>
              <a:path w="2184" h="2084">
                <a:moveTo>
                  <a:pt x="23961" y="4837"/>
                </a:moveTo>
                <a:cubicBezTo>
                  <a:pt x="23994" y="4837"/>
                  <a:pt x="24011" y="4837"/>
                  <a:pt x="24036" y="48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0800" y="4991040"/>
            <a:ext cx="1216080" cy="554040"/>
          </a:xfrm>
          <a:custGeom>
            <a:avLst/>
            <a:gdLst/>
            <a:ahLst/>
            <a:rect l="l" t="t" r="r" b="b"/>
            <a:pathLst>
              <a:path w="3374" h="1539">
                <a:moveTo>
                  <a:pt x="2679" y="13866"/>
                </a:moveTo>
                <a:cubicBezTo>
                  <a:pt x="3126" y="13890"/>
                  <a:pt x="3570" y="13902"/>
                  <a:pt x="4018" y="13915"/>
                </a:cubicBezTo>
                <a:cubicBezTo>
                  <a:pt x="4556" y="13930"/>
                  <a:pt x="5094" y="13974"/>
                  <a:pt x="5631" y="13990"/>
                </a:cubicBezTo>
                <a:cubicBezTo>
                  <a:pt x="5639" y="13990"/>
                  <a:pt x="5647" y="13990"/>
                  <a:pt x="5655" y="13990"/>
                </a:cubicBezTo>
              </a:path>
              <a:path w="3374" h="1539">
                <a:moveTo>
                  <a:pt x="5060" y="14213"/>
                </a:moveTo>
                <a:cubicBezTo>
                  <a:pt x="4975" y="14155"/>
                  <a:pt x="4860" y="14394"/>
                  <a:pt x="4837" y="14486"/>
                </a:cubicBezTo>
                <a:cubicBezTo>
                  <a:pt x="4837" y="14610"/>
                  <a:pt x="4837" y="14651"/>
                  <a:pt x="4911" y="14709"/>
                </a:cubicBezTo>
                <a:cubicBezTo>
                  <a:pt x="5079" y="14617"/>
                  <a:pt x="5303" y="14478"/>
                  <a:pt x="5184" y="14238"/>
                </a:cubicBezTo>
                <a:cubicBezTo>
                  <a:pt x="5113" y="14190"/>
                  <a:pt x="5091" y="14174"/>
                  <a:pt x="5035" y="14163"/>
                </a:cubicBezTo>
              </a:path>
              <a:path w="3374" h="1539">
                <a:moveTo>
                  <a:pt x="3969" y="14039"/>
                </a:moveTo>
                <a:cubicBezTo>
                  <a:pt x="4067" y="14059"/>
                  <a:pt x="4159" y="14102"/>
                  <a:pt x="4266" y="14089"/>
                </a:cubicBezTo>
                <a:cubicBezTo>
                  <a:pt x="4291" y="14081"/>
                  <a:pt x="4316" y="14072"/>
                  <a:pt x="4341" y="14064"/>
                </a:cubicBezTo>
                <a:cubicBezTo>
                  <a:pt x="4380" y="14220"/>
                  <a:pt x="4258" y="14361"/>
                  <a:pt x="4192" y="14511"/>
                </a:cubicBezTo>
                <a:cubicBezTo>
                  <a:pt x="4173" y="14568"/>
                  <a:pt x="4164" y="14575"/>
                  <a:pt x="4167" y="14610"/>
                </a:cubicBezTo>
              </a:path>
              <a:path w="3374" h="1539">
                <a:moveTo>
                  <a:pt x="4068" y="14784"/>
                </a:moveTo>
                <a:cubicBezTo>
                  <a:pt x="4068" y="14739"/>
                  <a:pt x="4083" y="14723"/>
                  <a:pt x="4093" y="14684"/>
                </a:cubicBezTo>
                <a:cubicBezTo>
                  <a:pt x="4018" y="14653"/>
                  <a:pt x="3945" y="14660"/>
                  <a:pt x="3919" y="14759"/>
                </a:cubicBezTo>
                <a:cubicBezTo>
                  <a:pt x="3889" y="14874"/>
                  <a:pt x="4086" y="14937"/>
                  <a:pt x="4142" y="15032"/>
                </a:cubicBezTo>
                <a:cubicBezTo>
                  <a:pt x="4142" y="15040"/>
                  <a:pt x="4142" y="15048"/>
                  <a:pt x="4142" y="15056"/>
                </a:cubicBezTo>
                <a:cubicBezTo>
                  <a:pt x="4087" y="15105"/>
                  <a:pt x="4000" y="15193"/>
                  <a:pt x="3944" y="15081"/>
                </a:cubicBezTo>
                <a:cubicBezTo>
                  <a:pt x="3905" y="15004"/>
                  <a:pt x="4034" y="14907"/>
                  <a:pt x="4068" y="14858"/>
                </a:cubicBezTo>
                <a:cubicBezTo>
                  <a:pt x="4121" y="14780"/>
                  <a:pt x="4139" y="14759"/>
                  <a:pt x="4043" y="14759"/>
                </a:cubicBezTo>
              </a:path>
              <a:path w="3374" h="1539">
                <a:moveTo>
                  <a:pt x="3299" y="14684"/>
                </a:moveTo>
                <a:cubicBezTo>
                  <a:pt x="3251" y="14615"/>
                  <a:pt x="3424" y="14659"/>
                  <a:pt x="3448" y="14684"/>
                </a:cubicBezTo>
                <a:cubicBezTo>
                  <a:pt x="3561" y="14803"/>
                  <a:pt x="3498" y="14988"/>
                  <a:pt x="3373" y="15056"/>
                </a:cubicBezTo>
                <a:cubicBezTo>
                  <a:pt x="3280" y="15106"/>
                  <a:pt x="3270" y="15071"/>
                  <a:pt x="3200" y="15032"/>
                </a:cubicBezTo>
                <a:cubicBezTo>
                  <a:pt x="3226" y="14929"/>
                  <a:pt x="3342" y="14964"/>
                  <a:pt x="3423" y="14982"/>
                </a:cubicBezTo>
                <a:cubicBezTo>
                  <a:pt x="3486" y="14996"/>
                  <a:pt x="3509" y="14994"/>
                  <a:pt x="3522" y="15032"/>
                </a:cubicBezTo>
              </a:path>
              <a:path w="3374" h="1539">
                <a:moveTo>
                  <a:pt x="2778" y="14784"/>
                </a:moveTo>
                <a:cubicBezTo>
                  <a:pt x="2717" y="14743"/>
                  <a:pt x="2698" y="14916"/>
                  <a:pt x="2679" y="14982"/>
                </a:cubicBezTo>
                <a:cubicBezTo>
                  <a:pt x="2654" y="15073"/>
                  <a:pt x="2647" y="15219"/>
                  <a:pt x="2803" y="15180"/>
                </a:cubicBezTo>
                <a:cubicBezTo>
                  <a:pt x="2886" y="15159"/>
                  <a:pt x="2936" y="15047"/>
                  <a:pt x="2952" y="14982"/>
                </a:cubicBezTo>
                <a:cubicBezTo>
                  <a:pt x="2916" y="14927"/>
                  <a:pt x="2856" y="14956"/>
                  <a:pt x="2828" y="15032"/>
                </a:cubicBezTo>
                <a:cubicBezTo>
                  <a:pt x="2820" y="15053"/>
                  <a:pt x="2828" y="15106"/>
                  <a:pt x="2828" y="15131"/>
                </a:cubicBezTo>
              </a:path>
              <a:path w="3374" h="1539">
                <a:moveTo>
                  <a:pt x="2282" y="15329"/>
                </a:moveTo>
                <a:cubicBezTo>
                  <a:pt x="2382" y="15300"/>
                  <a:pt x="2474" y="15258"/>
                  <a:pt x="2580" y="15255"/>
                </a:cubicBezTo>
                <a:cubicBezTo>
                  <a:pt x="2731" y="15250"/>
                  <a:pt x="2879" y="15244"/>
                  <a:pt x="3026" y="15230"/>
                </a:cubicBezTo>
                <a:cubicBezTo>
                  <a:pt x="3318" y="15203"/>
                  <a:pt x="3632" y="15228"/>
                  <a:pt x="3919" y="15255"/>
                </a:cubicBezTo>
                <a:cubicBezTo>
                  <a:pt x="4084" y="15271"/>
                  <a:pt x="4251" y="15262"/>
                  <a:pt x="4415" y="15280"/>
                </a:cubicBezTo>
                <a:cubicBezTo>
                  <a:pt x="4621" y="15303"/>
                  <a:pt x="4831" y="15329"/>
                  <a:pt x="5035" y="15354"/>
                </a:cubicBezTo>
                <a:cubicBezTo>
                  <a:pt x="5128" y="15365"/>
                  <a:pt x="5222" y="15378"/>
                  <a:pt x="5308" y="1540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51960" y="1562040"/>
            <a:ext cx="365040" cy="287280"/>
          </a:xfrm>
          <a:custGeom>
            <a:avLst/>
            <a:gdLst/>
            <a:ahLst/>
            <a:rect l="l" t="t" r="r" b="b"/>
            <a:pathLst>
              <a:path w="1018" h="795">
                <a:moveTo>
                  <a:pt x="24309" y="5110"/>
                </a:moveTo>
                <a:cubicBezTo>
                  <a:pt x="24309" y="5184"/>
                  <a:pt x="24305" y="4925"/>
                  <a:pt x="24309" y="4911"/>
                </a:cubicBezTo>
                <a:cubicBezTo>
                  <a:pt x="24325" y="4886"/>
                  <a:pt x="24342" y="4862"/>
                  <a:pt x="24358" y="4837"/>
                </a:cubicBezTo>
              </a:path>
              <a:path w="1018" h="795">
                <a:moveTo>
                  <a:pt x="24581" y="4738"/>
                </a:moveTo>
                <a:cubicBezTo>
                  <a:pt x="24630" y="4664"/>
                  <a:pt x="24534" y="4809"/>
                  <a:pt x="24532" y="4862"/>
                </a:cubicBezTo>
                <a:cubicBezTo>
                  <a:pt x="24551" y="4919"/>
                  <a:pt x="24542" y="4944"/>
                  <a:pt x="24581" y="4936"/>
                </a:cubicBezTo>
                <a:cubicBezTo>
                  <a:pt x="24726" y="4843"/>
                  <a:pt x="24797" y="4671"/>
                  <a:pt x="24755" y="4465"/>
                </a:cubicBezTo>
                <a:cubicBezTo>
                  <a:pt x="24738" y="4432"/>
                  <a:pt x="24722" y="4399"/>
                  <a:pt x="24705" y="4366"/>
                </a:cubicBezTo>
                <a:cubicBezTo>
                  <a:pt x="24615" y="4303"/>
                  <a:pt x="24753" y="4658"/>
                  <a:pt x="24755" y="4663"/>
                </a:cubicBezTo>
                <a:cubicBezTo>
                  <a:pt x="24823" y="4778"/>
                  <a:pt x="24838" y="4814"/>
                  <a:pt x="24929" y="4837"/>
                </a:cubicBezTo>
                <a:cubicBezTo>
                  <a:pt x="25077" y="4738"/>
                  <a:pt x="25210" y="4611"/>
                  <a:pt x="25226" y="4415"/>
                </a:cubicBezTo>
                <a:cubicBezTo>
                  <a:pt x="25218" y="4407"/>
                  <a:pt x="25210" y="4398"/>
                  <a:pt x="25202" y="4390"/>
                </a:cubicBezTo>
                <a:cubicBezTo>
                  <a:pt x="25142" y="4528"/>
                  <a:pt x="25201" y="4558"/>
                  <a:pt x="25326" y="45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74920" y="5554800"/>
            <a:ext cx="125280" cy="249120"/>
          </a:xfrm>
          <a:custGeom>
            <a:avLst/>
            <a:gdLst/>
            <a:ahLst/>
            <a:rect l="l" t="t" r="r" b="b"/>
            <a:pathLst>
              <a:path w="348" h="695">
                <a:moveTo>
                  <a:pt x="6598" y="15627"/>
                </a:moveTo>
                <a:cubicBezTo>
                  <a:pt x="6598" y="15701"/>
                  <a:pt x="6598" y="15503"/>
                  <a:pt x="6598" y="15503"/>
                </a:cubicBezTo>
                <a:cubicBezTo>
                  <a:pt x="6646" y="15451"/>
                  <a:pt x="6827" y="15465"/>
                  <a:pt x="6896" y="15453"/>
                </a:cubicBezTo>
                <a:cubicBezTo>
                  <a:pt x="6912" y="15445"/>
                  <a:pt x="6929" y="15437"/>
                  <a:pt x="6945" y="15429"/>
                </a:cubicBezTo>
                <a:cubicBezTo>
                  <a:pt x="6945" y="15643"/>
                  <a:pt x="6899" y="15842"/>
                  <a:pt x="6846" y="16049"/>
                </a:cubicBezTo>
                <a:cubicBezTo>
                  <a:pt x="6838" y="16074"/>
                  <a:pt x="6829" y="16098"/>
                  <a:pt x="6821" y="161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87760" y="5527800"/>
            <a:ext cx="142920" cy="223560"/>
          </a:xfrm>
          <a:custGeom>
            <a:avLst/>
            <a:gdLst/>
            <a:ahLst/>
            <a:rect l="l" t="t" r="r" b="b"/>
            <a:pathLst>
              <a:path w="398" h="621">
                <a:moveTo>
                  <a:pt x="7863" y="15379"/>
                </a:moveTo>
                <a:cubicBezTo>
                  <a:pt x="7673" y="15353"/>
                  <a:pt x="7594" y="15388"/>
                  <a:pt x="7466" y="15528"/>
                </a:cubicBezTo>
                <a:cubicBezTo>
                  <a:pt x="7528" y="15651"/>
                  <a:pt x="7734" y="15721"/>
                  <a:pt x="7764" y="15875"/>
                </a:cubicBezTo>
                <a:cubicBezTo>
                  <a:pt x="7787" y="15994"/>
                  <a:pt x="7628" y="15969"/>
                  <a:pt x="7565" y="15974"/>
                </a:cubicBezTo>
                <a:cubicBezTo>
                  <a:pt x="7583" y="15809"/>
                  <a:pt x="7636" y="15663"/>
                  <a:pt x="7689" y="155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74960" y="5589720"/>
            <a:ext cx="169920" cy="188640"/>
          </a:xfrm>
          <a:custGeom>
            <a:avLst/>
            <a:gdLst/>
            <a:ahLst/>
            <a:rect l="l" t="t" r="r" b="b"/>
            <a:pathLst>
              <a:path w="472" h="522">
                <a:moveTo>
                  <a:pt x="8409" y="15528"/>
                </a:moveTo>
                <a:cubicBezTo>
                  <a:pt x="8366" y="15531"/>
                  <a:pt x="8185" y="15523"/>
                  <a:pt x="8161" y="15577"/>
                </a:cubicBezTo>
                <a:cubicBezTo>
                  <a:pt x="8137" y="15673"/>
                  <a:pt x="8131" y="15702"/>
                  <a:pt x="8086" y="15751"/>
                </a:cubicBezTo>
                <a:cubicBezTo>
                  <a:pt x="8170" y="15751"/>
                  <a:pt x="8247" y="15694"/>
                  <a:pt x="8334" y="15726"/>
                </a:cubicBezTo>
                <a:cubicBezTo>
                  <a:pt x="8541" y="15803"/>
                  <a:pt x="8437" y="15973"/>
                  <a:pt x="8285" y="16024"/>
                </a:cubicBezTo>
                <a:cubicBezTo>
                  <a:pt x="8134" y="16049"/>
                  <a:pt x="8082" y="16057"/>
                  <a:pt x="7987" y="1599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87800" y="5653080"/>
            <a:ext cx="135000" cy="1602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9054" y="15726"/>
                </a:moveTo>
                <a:cubicBezTo>
                  <a:pt x="9011" y="15705"/>
                  <a:pt x="8866" y="15878"/>
                  <a:pt x="8855" y="15974"/>
                </a:cubicBezTo>
                <a:cubicBezTo>
                  <a:pt x="8863" y="16015"/>
                  <a:pt x="8872" y="16057"/>
                  <a:pt x="8880" y="16098"/>
                </a:cubicBezTo>
                <a:cubicBezTo>
                  <a:pt x="9060" y="16146"/>
                  <a:pt x="9244" y="16100"/>
                  <a:pt x="9227" y="15850"/>
                </a:cubicBezTo>
                <a:cubicBezTo>
                  <a:pt x="9217" y="15695"/>
                  <a:pt x="9081" y="15712"/>
                  <a:pt x="8979" y="157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20960" y="1768320"/>
            <a:ext cx="3251160" cy="3224520"/>
          </a:xfrm>
          <a:custGeom>
            <a:avLst/>
            <a:gdLst/>
            <a:ahLst/>
            <a:rect l="l" t="t" r="r" b="b"/>
            <a:pathLst>
              <a:path w="9030" h="8956">
                <a:moveTo>
                  <a:pt x="11782" y="4911"/>
                </a:moveTo>
                <a:cubicBezTo>
                  <a:pt x="11721" y="4927"/>
                  <a:pt x="11674" y="4945"/>
                  <a:pt x="11609" y="4961"/>
                </a:cubicBezTo>
                <a:cubicBezTo>
                  <a:pt x="11448" y="5000"/>
                  <a:pt x="11273" y="5029"/>
                  <a:pt x="11112" y="5085"/>
                </a:cubicBezTo>
                <a:cubicBezTo>
                  <a:pt x="10941" y="5144"/>
                  <a:pt x="10771" y="5215"/>
                  <a:pt x="10616" y="5308"/>
                </a:cubicBezTo>
                <a:cubicBezTo>
                  <a:pt x="10470" y="5395"/>
                  <a:pt x="10340" y="5514"/>
                  <a:pt x="10195" y="5606"/>
                </a:cubicBezTo>
                <a:cubicBezTo>
                  <a:pt x="10053" y="5696"/>
                  <a:pt x="9909" y="5778"/>
                  <a:pt x="9773" y="5879"/>
                </a:cubicBezTo>
                <a:cubicBezTo>
                  <a:pt x="9642" y="5977"/>
                  <a:pt x="9532" y="6105"/>
                  <a:pt x="9401" y="6201"/>
                </a:cubicBezTo>
                <a:cubicBezTo>
                  <a:pt x="9232" y="6325"/>
                  <a:pt x="9028" y="6425"/>
                  <a:pt x="8880" y="6573"/>
                </a:cubicBezTo>
                <a:cubicBezTo>
                  <a:pt x="8800" y="6653"/>
                  <a:pt x="8731" y="6760"/>
                  <a:pt x="8657" y="6846"/>
                </a:cubicBezTo>
                <a:cubicBezTo>
                  <a:pt x="8002" y="7602"/>
                  <a:pt x="7792" y="8387"/>
                  <a:pt x="7863" y="9376"/>
                </a:cubicBezTo>
                <a:cubicBezTo>
                  <a:pt x="7913" y="10069"/>
                  <a:pt x="8160" y="10646"/>
                  <a:pt x="8458" y="11261"/>
                </a:cubicBezTo>
                <a:cubicBezTo>
                  <a:pt x="8565" y="11483"/>
                  <a:pt x="8670" y="11696"/>
                  <a:pt x="8806" y="11906"/>
                </a:cubicBezTo>
                <a:cubicBezTo>
                  <a:pt x="8926" y="12091"/>
                  <a:pt x="9070" y="12237"/>
                  <a:pt x="9203" y="12402"/>
                </a:cubicBezTo>
                <a:cubicBezTo>
                  <a:pt x="9462" y="12724"/>
                  <a:pt x="9728" y="12924"/>
                  <a:pt x="10071" y="13146"/>
                </a:cubicBezTo>
                <a:cubicBezTo>
                  <a:pt x="10251" y="13263"/>
                  <a:pt x="10429" y="13414"/>
                  <a:pt x="10616" y="13519"/>
                </a:cubicBezTo>
                <a:cubicBezTo>
                  <a:pt x="10959" y="13711"/>
                  <a:pt x="11295" y="13797"/>
                  <a:pt x="11683" y="13841"/>
                </a:cubicBezTo>
                <a:cubicBezTo>
                  <a:pt x="11969" y="13873"/>
                  <a:pt x="12265" y="13888"/>
                  <a:pt x="12551" y="13841"/>
                </a:cubicBezTo>
                <a:cubicBezTo>
                  <a:pt x="12872" y="13788"/>
                  <a:pt x="13168" y="13654"/>
                  <a:pt x="13469" y="13543"/>
                </a:cubicBezTo>
                <a:cubicBezTo>
                  <a:pt x="13925" y="13375"/>
                  <a:pt x="14341" y="13145"/>
                  <a:pt x="14759" y="12898"/>
                </a:cubicBezTo>
                <a:cubicBezTo>
                  <a:pt x="15315" y="12570"/>
                  <a:pt x="15962" y="12189"/>
                  <a:pt x="16346" y="11658"/>
                </a:cubicBezTo>
                <a:cubicBezTo>
                  <a:pt x="16547" y="11380"/>
                  <a:pt x="16671" y="11066"/>
                  <a:pt x="16768" y="10740"/>
                </a:cubicBezTo>
                <a:cubicBezTo>
                  <a:pt x="16838" y="10505"/>
                  <a:pt x="16856" y="10263"/>
                  <a:pt x="16867" y="10021"/>
                </a:cubicBezTo>
                <a:cubicBezTo>
                  <a:pt x="16880" y="9727"/>
                  <a:pt x="16824" y="9488"/>
                  <a:pt x="16768" y="9203"/>
                </a:cubicBezTo>
                <a:cubicBezTo>
                  <a:pt x="16710" y="8910"/>
                  <a:pt x="16658" y="8587"/>
                  <a:pt x="16545" y="8310"/>
                </a:cubicBezTo>
                <a:cubicBezTo>
                  <a:pt x="16358" y="7851"/>
                  <a:pt x="16050" y="7573"/>
                  <a:pt x="15701" y="7243"/>
                </a:cubicBezTo>
                <a:cubicBezTo>
                  <a:pt x="15445" y="7001"/>
                  <a:pt x="15177" y="6775"/>
                  <a:pt x="14908" y="6548"/>
                </a:cubicBezTo>
                <a:cubicBezTo>
                  <a:pt x="14425" y="6141"/>
                  <a:pt x="14010" y="5670"/>
                  <a:pt x="13469" y="5333"/>
                </a:cubicBezTo>
                <a:cubicBezTo>
                  <a:pt x="13065" y="5082"/>
                  <a:pt x="12634" y="4929"/>
                  <a:pt x="12154" y="4961"/>
                </a:cubicBezTo>
                <a:cubicBezTo>
                  <a:pt x="11826" y="4983"/>
                  <a:pt x="11541" y="5087"/>
                  <a:pt x="11237" y="5184"/>
                </a:cubicBezTo>
              </a:path>
              <a:path w="9030" h="8956">
                <a:moveTo>
                  <a:pt x="8806" y="6003"/>
                </a:moveTo>
                <a:cubicBezTo>
                  <a:pt x="8835" y="6017"/>
                  <a:pt x="8878" y="6009"/>
                  <a:pt x="8905" y="6028"/>
                </a:cubicBezTo>
                <a:cubicBezTo>
                  <a:pt x="8967" y="6072"/>
                  <a:pt x="9022" y="6143"/>
                  <a:pt x="9054" y="6201"/>
                </a:cubicBezTo>
                <a:cubicBezTo>
                  <a:pt x="9089" y="6264"/>
                  <a:pt x="9102" y="6294"/>
                  <a:pt x="9153" y="6350"/>
                </a:cubicBezTo>
                <a:cubicBezTo>
                  <a:pt x="9199" y="6401"/>
                  <a:pt x="9238" y="6444"/>
                  <a:pt x="9277" y="6499"/>
                </a:cubicBezTo>
                <a:cubicBezTo>
                  <a:pt x="9298" y="6528"/>
                  <a:pt x="9312" y="6571"/>
                  <a:pt x="9351" y="6598"/>
                </a:cubicBezTo>
                <a:cubicBezTo>
                  <a:pt x="9359" y="6598"/>
                  <a:pt x="9368" y="6598"/>
                  <a:pt x="9376" y="6598"/>
                </a:cubicBezTo>
                <a:cubicBezTo>
                  <a:pt x="9411" y="6633"/>
                  <a:pt x="9478" y="6681"/>
                  <a:pt x="9525" y="6722"/>
                </a:cubicBezTo>
                <a:cubicBezTo>
                  <a:pt x="9555" y="6748"/>
                  <a:pt x="9584" y="6790"/>
                  <a:pt x="9624" y="6821"/>
                </a:cubicBezTo>
                <a:cubicBezTo>
                  <a:pt x="9679" y="6864"/>
                  <a:pt x="9742" y="6902"/>
                  <a:pt x="9798" y="6945"/>
                </a:cubicBezTo>
                <a:cubicBezTo>
                  <a:pt x="9855" y="6988"/>
                  <a:pt x="9918" y="7016"/>
                  <a:pt x="9971" y="7045"/>
                </a:cubicBezTo>
                <a:cubicBezTo>
                  <a:pt x="10006" y="7080"/>
                  <a:pt x="10073" y="7128"/>
                  <a:pt x="10120" y="7169"/>
                </a:cubicBezTo>
                <a:cubicBezTo>
                  <a:pt x="10163" y="7207"/>
                  <a:pt x="10196" y="7227"/>
                  <a:pt x="10244" y="7268"/>
                </a:cubicBezTo>
                <a:cubicBezTo>
                  <a:pt x="10273" y="7293"/>
                  <a:pt x="10323" y="7323"/>
                  <a:pt x="10344" y="7342"/>
                </a:cubicBezTo>
                <a:cubicBezTo>
                  <a:pt x="10395" y="7387"/>
                  <a:pt x="10432" y="7449"/>
                  <a:pt x="10468" y="7491"/>
                </a:cubicBezTo>
                <a:cubicBezTo>
                  <a:pt x="10510" y="7541"/>
                  <a:pt x="10553" y="7588"/>
                  <a:pt x="10592" y="7640"/>
                </a:cubicBezTo>
                <a:cubicBezTo>
                  <a:pt x="10632" y="7694"/>
                  <a:pt x="10652" y="7759"/>
                  <a:pt x="10691" y="7813"/>
                </a:cubicBezTo>
                <a:cubicBezTo>
                  <a:pt x="10720" y="7853"/>
                  <a:pt x="10721" y="7878"/>
                  <a:pt x="10740" y="7913"/>
                </a:cubicBezTo>
                <a:cubicBezTo>
                  <a:pt x="10759" y="7947"/>
                  <a:pt x="10773" y="7980"/>
                  <a:pt x="10790" y="8012"/>
                </a:cubicBezTo>
                <a:cubicBezTo>
                  <a:pt x="10811" y="8052"/>
                  <a:pt x="10842" y="8062"/>
                  <a:pt x="10864" y="8086"/>
                </a:cubicBezTo>
                <a:cubicBezTo>
                  <a:pt x="10880" y="8118"/>
                  <a:pt x="10873" y="8104"/>
                  <a:pt x="10889" y="8136"/>
                </a:cubicBezTo>
                <a:cubicBezTo>
                  <a:pt x="10921" y="8157"/>
                  <a:pt x="10918" y="8154"/>
                  <a:pt x="10939" y="8186"/>
                </a:cubicBezTo>
              </a:path>
              <a:path w="9030" h="8956">
                <a:moveTo>
                  <a:pt x="12576" y="9227"/>
                </a:moveTo>
                <a:cubicBezTo>
                  <a:pt x="12534" y="9186"/>
                  <a:pt x="12551" y="9217"/>
                  <a:pt x="12551" y="92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6160" y="3089160"/>
            <a:ext cx="750960" cy="804960"/>
          </a:xfrm>
          <a:custGeom>
            <a:avLst/>
            <a:gdLst/>
            <a:ahLst/>
            <a:rect l="l" t="t" r="r" b="b"/>
            <a:pathLst>
              <a:path w="2085" h="2234">
                <a:moveTo>
                  <a:pt x="3770" y="8682"/>
                </a:moveTo>
                <a:cubicBezTo>
                  <a:pt x="3932" y="8655"/>
                  <a:pt x="4083" y="8623"/>
                  <a:pt x="4242" y="8582"/>
                </a:cubicBezTo>
              </a:path>
              <a:path w="2085" h="2234">
                <a:moveTo>
                  <a:pt x="2158" y="10815"/>
                </a:moveTo>
                <a:lnTo>
                  <a:pt x="2158" y="10815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17760" y="2874960"/>
            <a:ext cx="6796080" cy="1312920"/>
          </a:xfrm>
          <a:custGeom>
            <a:avLst/>
            <a:gdLst/>
            <a:ahLst/>
            <a:rect l="l" t="t" r="r" b="b"/>
            <a:pathLst>
              <a:path w="18877" h="3647">
                <a:moveTo>
                  <a:pt x="4242" y="11633"/>
                </a:moveTo>
                <a:cubicBezTo>
                  <a:pt x="4242" y="11625"/>
                  <a:pt x="4242" y="11617"/>
                  <a:pt x="4242" y="11609"/>
                </a:cubicBezTo>
              </a:path>
              <a:path w="18877" h="3647">
                <a:moveTo>
                  <a:pt x="4217" y="11633"/>
                </a:moveTo>
                <a:lnTo>
                  <a:pt x="4217" y="11633"/>
                </a:lnTo>
              </a:path>
              <a:path w="18877" h="3647">
                <a:moveTo>
                  <a:pt x="12551" y="9252"/>
                </a:moveTo>
                <a:lnTo>
                  <a:pt x="12551" y="9252"/>
                </a:lnTo>
              </a:path>
              <a:path w="18877" h="3647">
                <a:moveTo>
                  <a:pt x="18380" y="8012"/>
                </a:moveTo>
                <a:cubicBezTo>
                  <a:pt x="18340" y="8178"/>
                  <a:pt x="18310" y="8340"/>
                  <a:pt x="18281" y="8508"/>
                </a:cubicBezTo>
              </a:path>
              <a:path w="18877" h="3647">
                <a:moveTo>
                  <a:pt x="21630" y="8434"/>
                </a:moveTo>
                <a:cubicBezTo>
                  <a:pt x="21533" y="8385"/>
                  <a:pt x="21503" y="8368"/>
                  <a:pt x="21431" y="8409"/>
                </a:cubicBezTo>
                <a:cubicBezTo>
                  <a:pt x="21400" y="8552"/>
                  <a:pt x="21307" y="9104"/>
                  <a:pt x="21654" y="8855"/>
                </a:cubicBezTo>
                <a:cubicBezTo>
                  <a:pt x="21696" y="8797"/>
                  <a:pt x="21737" y="8740"/>
                  <a:pt x="21779" y="8682"/>
                </a:cubicBezTo>
              </a:path>
              <a:path w="18877" h="3647">
                <a:moveTo>
                  <a:pt x="22721" y="8062"/>
                </a:moveTo>
                <a:cubicBezTo>
                  <a:pt x="22812" y="8036"/>
                  <a:pt x="22903" y="8013"/>
                  <a:pt x="22994" y="7987"/>
                </a:cubicBezTo>
              </a:path>
              <a:path w="18877" h="3647">
                <a:moveTo>
                  <a:pt x="22994" y="7987"/>
                </a:moveTo>
                <a:lnTo>
                  <a:pt x="22994" y="7987"/>
                </a:lnTo>
              </a:path>
              <a:path w="18877" h="3647">
                <a:moveTo>
                  <a:pt x="22820" y="8285"/>
                </a:moveTo>
                <a:cubicBezTo>
                  <a:pt x="22958" y="8229"/>
                  <a:pt x="23012" y="8204"/>
                  <a:pt x="23093" y="81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8640" y="2187720"/>
            <a:ext cx="1098360" cy="1992240"/>
          </a:xfrm>
          <a:custGeom>
            <a:avLst/>
            <a:gdLst/>
            <a:ahLst/>
            <a:rect l="l" t="t" r="r" b="b"/>
            <a:pathLst>
              <a:path w="3052" h="5533">
                <a:moveTo>
                  <a:pt x="19050" y="6077"/>
                </a:moveTo>
                <a:cubicBezTo>
                  <a:pt x="19042" y="6077"/>
                  <a:pt x="19033" y="6077"/>
                  <a:pt x="19025" y="6077"/>
                </a:cubicBezTo>
              </a:path>
              <a:path w="3052" h="5533">
                <a:moveTo>
                  <a:pt x="22076" y="10815"/>
                </a:moveTo>
                <a:lnTo>
                  <a:pt x="22076" y="10815"/>
                </a:lnTo>
                <a:lnTo>
                  <a:pt x="22076" y="10815"/>
                </a:lnTo>
              </a:path>
              <a:path w="3052" h="5533">
                <a:moveTo>
                  <a:pt x="20886" y="11187"/>
                </a:moveTo>
                <a:cubicBezTo>
                  <a:pt x="21008" y="11324"/>
                  <a:pt x="21067" y="11460"/>
                  <a:pt x="21158" y="11609"/>
                </a:cubicBezTo>
                <a:cubicBezTo>
                  <a:pt x="21158" y="11601"/>
                  <a:pt x="21158" y="11592"/>
                  <a:pt x="21158" y="1158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23080" y="1616040"/>
            <a:ext cx="320760" cy="250920"/>
          </a:xfrm>
          <a:custGeom>
            <a:avLst/>
            <a:gdLst/>
            <a:ahLst/>
            <a:rect l="l" t="t" r="r" b="b"/>
            <a:pathLst>
              <a:path w="894" h="695">
                <a:moveTo>
                  <a:pt x="18951" y="4713"/>
                </a:moveTo>
                <a:cubicBezTo>
                  <a:pt x="18958" y="4679"/>
                  <a:pt x="18969" y="4648"/>
                  <a:pt x="18976" y="4614"/>
                </a:cubicBezTo>
                <a:cubicBezTo>
                  <a:pt x="19065" y="4591"/>
                  <a:pt x="19126" y="4631"/>
                  <a:pt x="19174" y="4738"/>
                </a:cubicBezTo>
                <a:cubicBezTo>
                  <a:pt x="19248" y="4902"/>
                  <a:pt x="19250" y="5107"/>
                  <a:pt x="19075" y="5184"/>
                </a:cubicBezTo>
                <a:cubicBezTo>
                  <a:pt x="19008" y="5213"/>
                  <a:pt x="19007" y="5115"/>
                  <a:pt x="19000" y="5085"/>
                </a:cubicBezTo>
                <a:cubicBezTo>
                  <a:pt x="19114" y="5047"/>
                  <a:pt x="19177" y="5059"/>
                  <a:pt x="19273" y="5135"/>
                </a:cubicBezTo>
                <a:cubicBezTo>
                  <a:pt x="19296" y="5157"/>
                  <a:pt x="19304" y="5162"/>
                  <a:pt x="19298" y="5184"/>
                </a:cubicBezTo>
              </a:path>
              <a:path w="894" h="695">
                <a:moveTo>
                  <a:pt x="19645" y="4490"/>
                </a:moveTo>
                <a:cubicBezTo>
                  <a:pt x="19622" y="4498"/>
                  <a:pt x="19458" y="4529"/>
                  <a:pt x="19447" y="4539"/>
                </a:cubicBezTo>
                <a:cubicBezTo>
                  <a:pt x="19396" y="4586"/>
                  <a:pt x="19422" y="4676"/>
                  <a:pt x="19422" y="4738"/>
                </a:cubicBezTo>
                <a:cubicBezTo>
                  <a:pt x="19422" y="4746"/>
                  <a:pt x="19422" y="4754"/>
                  <a:pt x="19422" y="4762"/>
                </a:cubicBezTo>
                <a:cubicBezTo>
                  <a:pt x="19512" y="4752"/>
                  <a:pt x="19658" y="4674"/>
                  <a:pt x="19745" y="4713"/>
                </a:cubicBezTo>
                <a:cubicBezTo>
                  <a:pt x="19892" y="4779"/>
                  <a:pt x="19831" y="4909"/>
                  <a:pt x="19745" y="4986"/>
                </a:cubicBezTo>
                <a:cubicBezTo>
                  <a:pt x="19711" y="5016"/>
                  <a:pt x="19684" y="5011"/>
                  <a:pt x="19645" y="50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6920" y="2160720"/>
            <a:ext cx="812880" cy="357120"/>
          </a:xfrm>
          <a:custGeom>
            <a:avLst/>
            <a:gdLst/>
            <a:ahLst/>
            <a:rect l="l" t="t" r="r" b="b"/>
            <a:pathLst>
              <a:path w="2258" h="993">
                <a:moveTo>
                  <a:pt x="19397" y="6573"/>
                </a:moveTo>
                <a:cubicBezTo>
                  <a:pt x="19412" y="6603"/>
                  <a:pt x="19517" y="6477"/>
                  <a:pt x="19621" y="6548"/>
                </a:cubicBezTo>
                <a:cubicBezTo>
                  <a:pt x="19811" y="6677"/>
                  <a:pt x="19744" y="7010"/>
                  <a:pt x="19496" y="6995"/>
                </a:cubicBezTo>
                <a:cubicBezTo>
                  <a:pt x="19471" y="6978"/>
                  <a:pt x="19447" y="6962"/>
                  <a:pt x="19422" y="6945"/>
                </a:cubicBezTo>
                <a:cubicBezTo>
                  <a:pt x="19551" y="6846"/>
                  <a:pt x="19605" y="6863"/>
                  <a:pt x="19720" y="6970"/>
                </a:cubicBezTo>
                <a:cubicBezTo>
                  <a:pt x="19728" y="6978"/>
                  <a:pt x="19737" y="6987"/>
                  <a:pt x="19745" y="6995"/>
                </a:cubicBezTo>
              </a:path>
              <a:path w="2258" h="993">
                <a:moveTo>
                  <a:pt x="20241" y="6226"/>
                </a:moveTo>
                <a:cubicBezTo>
                  <a:pt x="20200" y="6234"/>
                  <a:pt x="20148" y="6256"/>
                  <a:pt x="20117" y="6276"/>
                </a:cubicBezTo>
                <a:cubicBezTo>
                  <a:pt x="20043" y="6324"/>
                  <a:pt x="20035" y="6403"/>
                  <a:pt x="20017" y="6474"/>
                </a:cubicBezTo>
                <a:cubicBezTo>
                  <a:pt x="20009" y="6499"/>
                  <a:pt x="20001" y="6523"/>
                  <a:pt x="19993" y="6548"/>
                </a:cubicBezTo>
                <a:cubicBezTo>
                  <a:pt x="20106" y="6548"/>
                  <a:pt x="20136" y="6464"/>
                  <a:pt x="20265" y="6524"/>
                </a:cubicBezTo>
                <a:cubicBezTo>
                  <a:pt x="20487" y="6628"/>
                  <a:pt x="20275" y="6841"/>
                  <a:pt x="20141" y="6871"/>
                </a:cubicBezTo>
                <a:cubicBezTo>
                  <a:pt x="20028" y="6871"/>
                  <a:pt x="19993" y="6881"/>
                  <a:pt x="19968" y="6796"/>
                </a:cubicBezTo>
              </a:path>
              <a:path w="2258" h="993">
                <a:moveTo>
                  <a:pt x="20811" y="6276"/>
                </a:moveTo>
                <a:cubicBezTo>
                  <a:pt x="20811" y="6300"/>
                  <a:pt x="20811" y="6308"/>
                  <a:pt x="20836" y="6300"/>
                </a:cubicBezTo>
                <a:cubicBezTo>
                  <a:pt x="20808" y="6192"/>
                  <a:pt x="20754" y="6269"/>
                  <a:pt x="20737" y="6350"/>
                </a:cubicBezTo>
                <a:cubicBezTo>
                  <a:pt x="20715" y="6500"/>
                  <a:pt x="20701" y="6534"/>
                  <a:pt x="20737" y="6623"/>
                </a:cubicBezTo>
                <a:cubicBezTo>
                  <a:pt x="20910" y="6582"/>
                  <a:pt x="20910" y="6531"/>
                  <a:pt x="21034" y="6375"/>
                </a:cubicBezTo>
              </a:path>
              <a:path w="2258" h="993">
                <a:moveTo>
                  <a:pt x="21084" y="6201"/>
                </a:moveTo>
                <a:cubicBezTo>
                  <a:pt x="21091" y="6318"/>
                  <a:pt x="21102" y="6431"/>
                  <a:pt x="21109" y="6548"/>
                </a:cubicBezTo>
                <a:cubicBezTo>
                  <a:pt x="21097" y="6428"/>
                  <a:pt x="21018" y="6167"/>
                  <a:pt x="21134" y="6201"/>
                </a:cubicBezTo>
                <a:cubicBezTo>
                  <a:pt x="21220" y="6226"/>
                  <a:pt x="21282" y="6406"/>
                  <a:pt x="21282" y="6375"/>
                </a:cubicBezTo>
                <a:cubicBezTo>
                  <a:pt x="21303" y="6164"/>
                  <a:pt x="21269" y="6125"/>
                  <a:pt x="21431" y="6003"/>
                </a:cubicBezTo>
                <a:cubicBezTo>
                  <a:pt x="21503" y="6140"/>
                  <a:pt x="21538" y="6223"/>
                  <a:pt x="21555" y="6375"/>
                </a:cubicBezTo>
              </a:path>
              <a:path w="2258" h="993">
                <a:moveTo>
                  <a:pt x="19323" y="6276"/>
                </a:moveTo>
                <a:cubicBezTo>
                  <a:pt x="19323" y="6251"/>
                  <a:pt x="19323" y="6243"/>
                  <a:pt x="19298" y="6251"/>
                </a:cubicBezTo>
                <a:cubicBezTo>
                  <a:pt x="19331" y="6294"/>
                  <a:pt x="19323" y="6354"/>
                  <a:pt x="19348" y="6400"/>
                </a:cubicBezTo>
                <a:cubicBezTo>
                  <a:pt x="19370" y="6422"/>
                  <a:pt x="19375" y="6430"/>
                  <a:pt x="19397" y="64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67760" y="2963880"/>
            <a:ext cx="741240" cy="341280"/>
          </a:xfrm>
          <a:custGeom>
            <a:avLst/>
            <a:gdLst/>
            <a:ahLst/>
            <a:rect l="l" t="t" r="r" b="b"/>
            <a:pathLst>
              <a:path w="2060" h="944">
                <a:moveTo>
                  <a:pt x="21853" y="8384"/>
                </a:moveTo>
                <a:cubicBezTo>
                  <a:pt x="21887" y="8475"/>
                  <a:pt x="21914" y="8537"/>
                  <a:pt x="21927" y="8632"/>
                </a:cubicBezTo>
                <a:cubicBezTo>
                  <a:pt x="21916" y="8552"/>
                  <a:pt x="21837" y="8329"/>
                  <a:pt x="21952" y="8285"/>
                </a:cubicBezTo>
                <a:cubicBezTo>
                  <a:pt x="22082" y="8235"/>
                  <a:pt x="22216" y="8528"/>
                  <a:pt x="22225" y="8533"/>
                </a:cubicBezTo>
                <a:cubicBezTo>
                  <a:pt x="22187" y="8418"/>
                  <a:pt x="22187" y="8351"/>
                  <a:pt x="22200" y="8235"/>
                </a:cubicBezTo>
                <a:cubicBezTo>
                  <a:pt x="22322" y="8258"/>
                  <a:pt x="22385" y="8522"/>
                  <a:pt x="22473" y="8434"/>
                </a:cubicBezTo>
                <a:cubicBezTo>
                  <a:pt x="22490" y="8401"/>
                  <a:pt x="22506" y="8367"/>
                  <a:pt x="22523" y="8334"/>
                </a:cubicBezTo>
              </a:path>
              <a:path w="2060" h="944">
                <a:moveTo>
                  <a:pt x="20588" y="8682"/>
                </a:moveTo>
                <a:cubicBezTo>
                  <a:pt x="20498" y="8733"/>
                  <a:pt x="20421" y="8969"/>
                  <a:pt x="20464" y="9103"/>
                </a:cubicBezTo>
                <a:cubicBezTo>
                  <a:pt x="20489" y="9128"/>
                  <a:pt x="20513" y="9153"/>
                  <a:pt x="20538" y="9178"/>
                </a:cubicBezTo>
                <a:cubicBezTo>
                  <a:pt x="20729" y="9095"/>
                  <a:pt x="20831" y="8977"/>
                  <a:pt x="20712" y="8756"/>
                </a:cubicBezTo>
                <a:cubicBezTo>
                  <a:pt x="20639" y="8683"/>
                  <a:pt x="20616" y="8658"/>
                  <a:pt x="20538" y="868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97840" y="3321000"/>
            <a:ext cx="1544400" cy="2036880"/>
          </a:xfrm>
          <a:custGeom>
            <a:avLst/>
            <a:gdLst/>
            <a:ahLst/>
            <a:rect l="l" t="t" r="r" b="b"/>
            <a:pathLst>
              <a:path w="4292" h="5657">
                <a:moveTo>
                  <a:pt x="21481" y="10468"/>
                </a:moveTo>
                <a:cubicBezTo>
                  <a:pt x="21465" y="10402"/>
                  <a:pt x="21575" y="10265"/>
                  <a:pt x="21704" y="10319"/>
                </a:cubicBezTo>
                <a:cubicBezTo>
                  <a:pt x="21890" y="10396"/>
                  <a:pt x="21697" y="10608"/>
                  <a:pt x="21630" y="10691"/>
                </a:cubicBezTo>
                <a:cubicBezTo>
                  <a:pt x="21760" y="10678"/>
                  <a:pt x="21916" y="10767"/>
                  <a:pt x="21828" y="10939"/>
                </a:cubicBezTo>
                <a:cubicBezTo>
                  <a:pt x="21775" y="11043"/>
                  <a:pt x="21547" y="11130"/>
                  <a:pt x="21456" y="11038"/>
                </a:cubicBezTo>
                <a:cubicBezTo>
                  <a:pt x="21464" y="11038"/>
                  <a:pt x="21473" y="11038"/>
                  <a:pt x="21481" y="11038"/>
                </a:cubicBezTo>
              </a:path>
              <a:path w="4292" h="5657">
                <a:moveTo>
                  <a:pt x="22473" y="10294"/>
                </a:moveTo>
                <a:cubicBezTo>
                  <a:pt x="22433" y="10334"/>
                  <a:pt x="22525" y="10605"/>
                  <a:pt x="22547" y="10691"/>
                </a:cubicBezTo>
                <a:cubicBezTo>
                  <a:pt x="22559" y="10740"/>
                  <a:pt x="22572" y="10841"/>
                  <a:pt x="22572" y="10790"/>
                </a:cubicBezTo>
              </a:path>
              <a:path w="4292" h="5657">
                <a:moveTo>
                  <a:pt x="22870" y="10393"/>
                </a:moveTo>
                <a:cubicBezTo>
                  <a:pt x="22870" y="10471"/>
                  <a:pt x="22885" y="10489"/>
                  <a:pt x="22845" y="10517"/>
                </a:cubicBezTo>
                <a:cubicBezTo>
                  <a:pt x="22956" y="10517"/>
                  <a:pt x="23173" y="10544"/>
                  <a:pt x="23242" y="10492"/>
                </a:cubicBezTo>
              </a:path>
              <a:path w="4292" h="5657">
                <a:moveTo>
                  <a:pt x="23093" y="9971"/>
                </a:moveTo>
                <a:cubicBezTo>
                  <a:pt x="23138" y="10172"/>
                  <a:pt x="23228" y="10363"/>
                  <a:pt x="23267" y="10567"/>
                </a:cubicBezTo>
                <a:cubicBezTo>
                  <a:pt x="23285" y="10659"/>
                  <a:pt x="23301" y="10770"/>
                  <a:pt x="23316" y="10864"/>
                </a:cubicBezTo>
              </a:path>
              <a:path w="4292" h="5657">
                <a:moveTo>
                  <a:pt x="22051" y="10815"/>
                </a:moveTo>
                <a:cubicBezTo>
                  <a:pt x="22040" y="10838"/>
                  <a:pt x="21998" y="10974"/>
                  <a:pt x="22076" y="10939"/>
                </a:cubicBezTo>
                <a:cubicBezTo>
                  <a:pt x="22132" y="10914"/>
                  <a:pt x="22110" y="10894"/>
                  <a:pt x="22051" y="10914"/>
                </a:cubicBezTo>
              </a:path>
              <a:path w="4292" h="5657">
                <a:moveTo>
                  <a:pt x="21109" y="11137"/>
                </a:moveTo>
                <a:cubicBezTo>
                  <a:pt x="21064" y="11295"/>
                  <a:pt x="20943" y="11544"/>
                  <a:pt x="20960" y="11683"/>
                </a:cubicBezTo>
              </a:path>
              <a:path w="4292" h="5657">
                <a:moveTo>
                  <a:pt x="22696" y="11212"/>
                </a:moveTo>
                <a:cubicBezTo>
                  <a:pt x="22571" y="11170"/>
                  <a:pt x="22489" y="11204"/>
                  <a:pt x="22423" y="11336"/>
                </a:cubicBezTo>
                <a:cubicBezTo>
                  <a:pt x="22415" y="11369"/>
                  <a:pt x="22407" y="11402"/>
                  <a:pt x="22399" y="11435"/>
                </a:cubicBezTo>
                <a:cubicBezTo>
                  <a:pt x="22461" y="11476"/>
                  <a:pt x="22773" y="11604"/>
                  <a:pt x="22721" y="11708"/>
                </a:cubicBezTo>
                <a:cubicBezTo>
                  <a:pt x="22704" y="11716"/>
                  <a:pt x="22688" y="11725"/>
                  <a:pt x="22671" y="11733"/>
                </a:cubicBezTo>
                <a:cubicBezTo>
                  <a:pt x="22513" y="11622"/>
                  <a:pt x="22611" y="11513"/>
                  <a:pt x="22671" y="11336"/>
                </a:cubicBezTo>
                <a:cubicBezTo>
                  <a:pt x="22712" y="11216"/>
                  <a:pt x="22670" y="11224"/>
                  <a:pt x="22771" y="11336"/>
                </a:cubicBezTo>
              </a:path>
              <a:path w="4292" h="5657">
                <a:moveTo>
                  <a:pt x="23019" y="11534"/>
                </a:moveTo>
                <a:cubicBezTo>
                  <a:pt x="23038" y="11585"/>
                  <a:pt x="23044" y="11604"/>
                  <a:pt x="23044" y="11658"/>
                </a:cubicBezTo>
              </a:path>
              <a:path w="4292" h="5657">
                <a:moveTo>
                  <a:pt x="23391" y="11038"/>
                </a:moveTo>
                <a:cubicBezTo>
                  <a:pt x="23354" y="11063"/>
                  <a:pt x="23240" y="11085"/>
                  <a:pt x="23217" y="11112"/>
                </a:cubicBezTo>
                <a:cubicBezTo>
                  <a:pt x="23189" y="11145"/>
                  <a:pt x="23209" y="11230"/>
                  <a:pt x="23217" y="11261"/>
                </a:cubicBezTo>
                <a:cubicBezTo>
                  <a:pt x="23310" y="11261"/>
                  <a:pt x="23401" y="11212"/>
                  <a:pt x="23490" y="11261"/>
                </a:cubicBezTo>
                <a:cubicBezTo>
                  <a:pt x="23616" y="11330"/>
                  <a:pt x="23616" y="11475"/>
                  <a:pt x="23490" y="11534"/>
                </a:cubicBezTo>
                <a:cubicBezTo>
                  <a:pt x="23391" y="11559"/>
                  <a:pt x="23358" y="11567"/>
                  <a:pt x="23292" y="11534"/>
                </a:cubicBezTo>
              </a:path>
              <a:path w="4292" h="5657">
                <a:moveTo>
                  <a:pt x="20563" y="12129"/>
                </a:moveTo>
                <a:cubicBezTo>
                  <a:pt x="20819" y="12121"/>
                  <a:pt x="21076" y="12105"/>
                  <a:pt x="21332" y="12080"/>
                </a:cubicBezTo>
                <a:cubicBezTo>
                  <a:pt x="22143" y="12001"/>
                  <a:pt x="22952" y="11882"/>
                  <a:pt x="23763" y="11807"/>
                </a:cubicBezTo>
                <a:cubicBezTo>
                  <a:pt x="23831" y="11801"/>
                  <a:pt x="23895" y="11810"/>
                  <a:pt x="23961" y="11807"/>
                </a:cubicBezTo>
              </a:path>
              <a:path w="4292" h="5657">
                <a:moveTo>
                  <a:pt x="23564" y="12129"/>
                </a:moveTo>
                <a:cubicBezTo>
                  <a:pt x="23537" y="12242"/>
                  <a:pt x="23515" y="12336"/>
                  <a:pt x="23515" y="12452"/>
                </a:cubicBezTo>
                <a:cubicBezTo>
                  <a:pt x="23588" y="12425"/>
                  <a:pt x="23848" y="12346"/>
                  <a:pt x="23788" y="12204"/>
                </a:cubicBezTo>
                <a:cubicBezTo>
                  <a:pt x="23766" y="12151"/>
                  <a:pt x="23684" y="12109"/>
                  <a:pt x="23639" y="12080"/>
                </a:cubicBezTo>
              </a:path>
              <a:path w="4292" h="5657">
                <a:moveTo>
                  <a:pt x="22151" y="9550"/>
                </a:moveTo>
                <a:cubicBezTo>
                  <a:pt x="22165" y="9634"/>
                  <a:pt x="22177" y="9582"/>
                  <a:pt x="22250" y="9525"/>
                </a:cubicBezTo>
                <a:cubicBezTo>
                  <a:pt x="22429" y="9656"/>
                  <a:pt x="22418" y="9827"/>
                  <a:pt x="22250" y="9996"/>
                </a:cubicBezTo>
                <a:cubicBezTo>
                  <a:pt x="22149" y="10097"/>
                  <a:pt x="22047" y="10131"/>
                  <a:pt x="21927" y="10120"/>
                </a:cubicBezTo>
                <a:cubicBezTo>
                  <a:pt x="21988" y="9990"/>
                  <a:pt x="22023" y="9888"/>
                  <a:pt x="22175" y="9922"/>
                </a:cubicBezTo>
                <a:cubicBezTo>
                  <a:pt x="22323" y="9955"/>
                  <a:pt x="22368" y="9988"/>
                  <a:pt x="22498" y="9897"/>
                </a:cubicBezTo>
              </a:path>
              <a:path w="4292" h="5657">
                <a:moveTo>
                  <a:pt x="22547" y="12204"/>
                </a:moveTo>
                <a:cubicBezTo>
                  <a:pt x="22547" y="12250"/>
                  <a:pt x="22559" y="12277"/>
                  <a:pt x="22597" y="12303"/>
                </a:cubicBezTo>
                <a:cubicBezTo>
                  <a:pt x="22614" y="12237"/>
                  <a:pt x="22655" y="12228"/>
                  <a:pt x="22721" y="12204"/>
                </a:cubicBezTo>
                <a:cubicBezTo>
                  <a:pt x="22782" y="12182"/>
                  <a:pt x="22818" y="12150"/>
                  <a:pt x="22870" y="12129"/>
                </a:cubicBezTo>
                <a:cubicBezTo>
                  <a:pt x="22887" y="12248"/>
                  <a:pt x="22933" y="12353"/>
                  <a:pt x="22920" y="12477"/>
                </a:cubicBezTo>
                <a:cubicBezTo>
                  <a:pt x="22913" y="12543"/>
                  <a:pt x="22895" y="12568"/>
                  <a:pt x="22895" y="12626"/>
                </a:cubicBezTo>
              </a:path>
              <a:path w="4292" h="5657">
                <a:moveTo>
                  <a:pt x="21382" y="12278"/>
                </a:moveTo>
                <a:cubicBezTo>
                  <a:pt x="21407" y="12407"/>
                  <a:pt x="21467" y="12510"/>
                  <a:pt x="21481" y="12650"/>
                </a:cubicBezTo>
                <a:cubicBezTo>
                  <a:pt x="21487" y="12709"/>
                  <a:pt x="21454" y="12807"/>
                  <a:pt x="21506" y="12824"/>
                </a:cubicBezTo>
              </a:path>
              <a:path w="4292" h="5657">
                <a:moveTo>
                  <a:pt x="22027" y="12254"/>
                </a:moveTo>
                <a:cubicBezTo>
                  <a:pt x="21972" y="12267"/>
                  <a:pt x="21897" y="12292"/>
                  <a:pt x="21878" y="12328"/>
                </a:cubicBezTo>
                <a:cubicBezTo>
                  <a:pt x="21849" y="12383"/>
                  <a:pt x="21853" y="12416"/>
                  <a:pt x="21853" y="12477"/>
                </a:cubicBezTo>
                <a:cubicBezTo>
                  <a:pt x="21933" y="12441"/>
                  <a:pt x="22041" y="12387"/>
                  <a:pt x="22126" y="12452"/>
                </a:cubicBezTo>
                <a:cubicBezTo>
                  <a:pt x="22251" y="12548"/>
                  <a:pt x="22046" y="12702"/>
                  <a:pt x="21977" y="12725"/>
                </a:cubicBezTo>
                <a:cubicBezTo>
                  <a:pt x="21944" y="12725"/>
                  <a:pt x="21911" y="12725"/>
                  <a:pt x="21878" y="12725"/>
                </a:cubicBezTo>
              </a:path>
              <a:path w="4292" h="5657">
                <a:moveTo>
                  <a:pt x="23713" y="12725"/>
                </a:moveTo>
                <a:cubicBezTo>
                  <a:pt x="23639" y="12750"/>
                  <a:pt x="23604" y="12889"/>
                  <a:pt x="23589" y="12973"/>
                </a:cubicBezTo>
                <a:cubicBezTo>
                  <a:pt x="23589" y="12998"/>
                  <a:pt x="23589" y="13022"/>
                  <a:pt x="23589" y="13047"/>
                </a:cubicBezTo>
                <a:cubicBezTo>
                  <a:pt x="23706" y="13094"/>
                  <a:pt x="23830" y="13134"/>
                  <a:pt x="23912" y="12998"/>
                </a:cubicBezTo>
                <a:cubicBezTo>
                  <a:pt x="23986" y="12874"/>
                  <a:pt x="23901" y="12796"/>
                  <a:pt x="23788" y="12774"/>
                </a:cubicBezTo>
                <a:cubicBezTo>
                  <a:pt x="23771" y="12774"/>
                  <a:pt x="23755" y="12774"/>
                  <a:pt x="23738" y="12774"/>
                </a:cubicBezTo>
              </a:path>
              <a:path w="4292" h="5657">
                <a:moveTo>
                  <a:pt x="22895" y="12923"/>
                </a:moveTo>
                <a:cubicBezTo>
                  <a:pt x="22865" y="12908"/>
                  <a:pt x="22907" y="12839"/>
                  <a:pt x="22969" y="12824"/>
                </a:cubicBezTo>
                <a:cubicBezTo>
                  <a:pt x="23156" y="12779"/>
                  <a:pt x="23164" y="12999"/>
                  <a:pt x="23118" y="13122"/>
                </a:cubicBezTo>
                <a:cubicBezTo>
                  <a:pt x="23088" y="13202"/>
                  <a:pt x="22936" y="13392"/>
                  <a:pt x="22870" y="13246"/>
                </a:cubicBezTo>
                <a:cubicBezTo>
                  <a:pt x="22870" y="13238"/>
                  <a:pt x="22870" y="13229"/>
                  <a:pt x="22870" y="13221"/>
                </a:cubicBezTo>
                <a:cubicBezTo>
                  <a:pt x="22954" y="13179"/>
                  <a:pt x="23068" y="13197"/>
                  <a:pt x="23168" y="13171"/>
                </a:cubicBezTo>
                <a:cubicBezTo>
                  <a:pt x="23223" y="13157"/>
                  <a:pt x="23272" y="13151"/>
                  <a:pt x="23292" y="13122"/>
                </a:cubicBezTo>
              </a:path>
              <a:path w="4292" h="5657">
                <a:moveTo>
                  <a:pt x="22002" y="9426"/>
                </a:moveTo>
                <a:cubicBezTo>
                  <a:pt x="22078" y="9312"/>
                  <a:pt x="22148" y="9276"/>
                  <a:pt x="22275" y="9227"/>
                </a:cubicBezTo>
                <a:cubicBezTo>
                  <a:pt x="22291" y="9388"/>
                  <a:pt x="22300" y="9436"/>
                  <a:pt x="22200" y="9575"/>
                </a:cubicBezTo>
                <a:cubicBezTo>
                  <a:pt x="22178" y="9597"/>
                  <a:pt x="22173" y="9605"/>
                  <a:pt x="22151" y="9599"/>
                </a:cubicBezTo>
              </a:path>
              <a:path w="4292" h="5657">
                <a:moveTo>
                  <a:pt x="22200" y="12973"/>
                </a:moveTo>
                <a:cubicBezTo>
                  <a:pt x="22280" y="13012"/>
                  <a:pt x="22316" y="13183"/>
                  <a:pt x="22349" y="13271"/>
                </a:cubicBezTo>
                <a:cubicBezTo>
                  <a:pt x="22363" y="13308"/>
                  <a:pt x="22374" y="13429"/>
                  <a:pt x="22374" y="13320"/>
                </a:cubicBezTo>
              </a:path>
              <a:path w="4292" h="5657">
                <a:moveTo>
                  <a:pt x="21208" y="9748"/>
                </a:moveTo>
                <a:cubicBezTo>
                  <a:pt x="21264" y="9860"/>
                  <a:pt x="21316" y="9979"/>
                  <a:pt x="21357" y="10096"/>
                </a:cubicBezTo>
                <a:cubicBezTo>
                  <a:pt x="21357" y="10120"/>
                  <a:pt x="21357" y="10129"/>
                  <a:pt x="21357" y="10145"/>
                </a:cubicBezTo>
              </a:path>
              <a:path w="4292" h="5657">
                <a:moveTo>
                  <a:pt x="20712" y="13444"/>
                </a:moveTo>
                <a:cubicBezTo>
                  <a:pt x="20811" y="13361"/>
                  <a:pt x="21010" y="13198"/>
                  <a:pt x="21084" y="13419"/>
                </a:cubicBezTo>
                <a:cubicBezTo>
                  <a:pt x="21160" y="13649"/>
                  <a:pt x="20983" y="13742"/>
                  <a:pt x="20811" y="13742"/>
                </a:cubicBezTo>
                <a:cubicBezTo>
                  <a:pt x="20833" y="13634"/>
                  <a:pt x="20913" y="13629"/>
                  <a:pt x="21010" y="13667"/>
                </a:cubicBezTo>
                <a:cubicBezTo>
                  <a:pt x="21073" y="13692"/>
                  <a:pt x="20992" y="13737"/>
                  <a:pt x="21059" y="13692"/>
                </a:cubicBezTo>
              </a:path>
              <a:path w="4292" h="5657">
                <a:moveTo>
                  <a:pt x="21506" y="13171"/>
                </a:moveTo>
                <a:cubicBezTo>
                  <a:pt x="21462" y="13207"/>
                  <a:pt x="21415" y="13240"/>
                  <a:pt x="21357" y="13246"/>
                </a:cubicBezTo>
                <a:cubicBezTo>
                  <a:pt x="21322" y="13249"/>
                  <a:pt x="21284" y="13392"/>
                  <a:pt x="21258" y="13444"/>
                </a:cubicBezTo>
                <a:cubicBezTo>
                  <a:pt x="21353" y="13433"/>
                  <a:pt x="21512" y="13350"/>
                  <a:pt x="21605" y="13395"/>
                </a:cubicBezTo>
                <a:cubicBezTo>
                  <a:pt x="21797" y="13488"/>
                  <a:pt x="21505" y="13675"/>
                  <a:pt x="21431" y="13692"/>
                </a:cubicBezTo>
                <a:cubicBezTo>
                  <a:pt x="21357" y="13692"/>
                  <a:pt x="21348" y="13692"/>
                  <a:pt x="21307" y="13692"/>
                </a:cubicBezTo>
              </a:path>
              <a:path w="4292" h="5657">
                <a:moveTo>
                  <a:pt x="20141" y="13246"/>
                </a:moveTo>
                <a:cubicBezTo>
                  <a:pt x="20148" y="13380"/>
                  <a:pt x="20166" y="13508"/>
                  <a:pt x="20166" y="13643"/>
                </a:cubicBezTo>
              </a:path>
              <a:path w="4292" h="5657">
                <a:moveTo>
                  <a:pt x="19993" y="13494"/>
                </a:moveTo>
                <a:cubicBezTo>
                  <a:pt x="20135" y="13484"/>
                  <a:pt x="20273" y="13454"/>
                  <a:pt x="20414" y="13444"/>
                </a:cubicBezTo>
              </a:path>
              <a:path w="4292" h="5657">
                <a:moveTo>
                  <a:pt x="24135" y="14238"/>
                </a:moveTo>
                <a:cubicBezTo>
                  <a:pt x="24073" y="14269"/>
                  <a:pt x="23976" y="14490"/>
                  <a:pt x="23961" y="14560"/>
                </a:cubicBezTo>
                <a:cubicBezTo>
                  <a:pt x="23939" y="14667"/>
                  <a:pt x="23958" y="14730"/>
                  <a:pt x="24011" y="14808"/>
                </a:cubicBezTo>
                <a:cubicBezTo>
                  <a:pt x="24179" y="14739"/>
                  <a:pt x="24349" y="14637"/>
                  <a:pt x="24284" y="14412"/>
                </a:cubicBezTo>
                <a:cubicBezTo>
                  <a:pt x="24220" y="14380"/>
                  <a:pt x="24189" y="14368"/>
                  <a:pt x="24135" y="14362"/>
                </a:cubicBezTo>
              </a:path>
              <a:path w="4292" h="5657">
                <a:moveTo>
                  <a:pt x="23490" y="14337"/>
                </a:moveTo>
                <a:cubicBezTo>
                  <a:pt x="23498" y="14337"/>
                  <a:pt x="23507" y="14337"/>
                  <a:pt x="23515" y="14337"/>
                </a:cubicBezTo>
                <a:cubicBezTo>
                  <a:pt x="23515" y="14266"/>
                  <a:pt x="23464" y="14206"/>
                  <a:pt x="23366" y="14263"/>
                </a:cubicBezTo>
                <a:cubicBezTo>
                  <a:pt x="23205" y="14358"/>
                  <a:pt x="23201" y="14645"/>
                  <a:pt x="23440" y="14536"/>
                </a:cubicBezTo>
                <a:cubicBezTo>
                  <a:pt x="23502" y="14508"/>
                  <a:pt x="23547" y="14413"/>
                  <a:pt x="23589" y="14362"/>
                </a:cubicBezTo>
                <a:cubicBezTo>
                  <a:pt x="23602" y="14522"/>
                  <a:pt x="23610" y="14650"/>
                  <a:pt x="23589" y="14808"/>
                </a:cubicBezTo>
                <a:cubicBezTo>
                  <a:pt x="23589" y="14816"/>
                  <a:pt x="23589" y="14825"/>
                  <a:pt x="23589" y="14833"/>
                </a:cubicBezTo>
              </a:path>
              <a:path w="4292" h="5657">
                <a:moveTo>
                  <a:pt x="22771" y="14312"/>
                </a:moveTo>
                <a:cubicBezTo>
                  <a:pt x="22771" y="14296"/>
                  <a:pt x="22771" y="14279"/>
                  <a:pt x="22771" y="14263"/>
                </a:cubicBezTo>
                <a:cubicBezTo>
                  <a:pt x="22723" y="14279"/>
                  <a:pt x="22684" y="14467"/>
                  <a:pt x="22671" y="14511"/>
                </a:cubicBezTo>
                <a:cubicBezTo>
                  <a:pt x="22631" y="14644"/>
                  <a:pt x="22599" y="14732"/>
                  <a:pt x="22622" y="14858"/>
                </a:cubicBezTo>
                <a:cubicBezTo>
                  <a:pt x="22720" y="14878"/>
                  <a:pt x="22886" y="14842"/>
                  <a:pt x="22944" y="14734"/>
                </a:cubicBezTo>
                <a:cubicBezTo>
                  <a:pt x="22944" y="14709"/>
                  <a:pt x="22944" y="14685"/>
                  <a:pt x="22944" y="14660"/>
                </a:cubicBezTo>
                <a:cubicBezTo>
                  <a:pt x="22900" y="14593"/>
                  <a:pt x="22804" y="14663"/>
                  <a:pt x="22771" y="14734"/>
                </a:cubicBezTo>
                <a:cubicBezTo>
                  <a:pt x="22750" y="14816"/>
                  <a:pt x="22742" y="14832"/>
                  <a:pt x="22746" y="14883"/>
                </a:cubicBezTo>
              </a:path>
              <a:path w="4292" h="5657">
                <a:moveTo>
                  <a:pt x="21754" y="14263"/>
                </a:moveTo>
                <a:cubicBezTo>
                  <a:pt x="21734" y="14204"/>
                  <a:pt x="21735" y="14255"/>
                  <a:pt x="21729" y="14288"/>
                </a:cubicBezTo>
                <a:cubicBezTo>
                  <a:pt x="21703" y="14440"/>
                  <a:pt x="21656" y="14636"/>
                  <a:pt x="21704" y="14784"/>
                </a:cubicBezTo>
                <a:cubicBezTo>
                  <a:pt x="21732" y="14870"/>
                  <a:pt x="21949" y="14758"/>
                  <a:pt x="21977" y="14734"/>
                </a:cubicBezTo>
                <a:cubicBezTo>
                  <a:pt x="22052" y="14669"/>
                  <a:pt x="22066" y="14599"/>
                  <a:pt x="22002" y="14536"/>
                </a:cubicBezTo>
                <a:cubicBezTo>
                  <a:pt x="21856" y="14584"/>
                  <a:pt x="21862" y="14661"/>
                  <a:pt x="21853" y="14808"/>
                </a:cubicBezTo>
              </a:path>
              <a:path w="4292" h="5657">
                <a:moveTo>
                  <a:pt x="20985" y="14337"/>
                </a:moveTo>
                <a:cubicBezTo>
                  <a:pt x="20954" y="14357"/>
                  <a:pt x="20960" y="14363"/>
                  <a:pt x="20960" y="14412"/>
                </a:cubicBezTo>
                <a:cubicBezTo>
                  <a:pt x="20922" y="14449"/>
                  <a:pt x="20944" y="14376"/>
                  <a:pt x="20960" y="14337"/>
                </a:cubicBezTo>
                <a:cubicBezTo>
                  <a:pt x="20999" y="14244"/>
                  <a:pt x="21086" y="14296"/>
                  <a:pt x="21109" y="14362"/>
                </a:cubicBezTo>
                <a:cubicBezTo>
                  <a:pt x="21174" y="14546"/>
                  <a:pt x="21080" y="14727"/>
                  <a:pt x="20935" y="14833"/>
                </a:cubicBezTo>
                <a:cubicBezTo>
                  <a:pt x="20877" y="14875"/>
                  <a:pt x="20875" y="14847"/>
                  <a:pt x="20836" y="14808"/>
                </a:cubicBezTo>
                <a:cubicBezTo>
                  <a:pt x="20836" y="14727"/>
                  <a:pt x="20912" y="14723"/>
                  <a:pt x="20985" y="14734"/>
                </a:cubicBezTo>
                <a:cubicBezTo>
                  <a:pt x="21066" y="14746"/>
                  <a:pt x="21089" y="14825"/>
                  <a:pt x="21158" y="14833"/>
                </a:cubicBezTo>
                <a:cubicBezTo>
                  <a:pt x="21166" y="14833"/>
                  <a:pt x="21175" y="14833"/>
                  <a:pt x="21183" y="14833"/>
                </a:cubicBezTo>
              </a:path>
              <a:path w="4292" h="5657">
                <a:moveTo>
                  <a:pt x="22275" y="14833"/>
                </a:moveTo>
                <a:cubicBezTo>
                  <a:pt x="22275" y="14808"/>
                  <a:pt x="22275" y="14800"/>
                  <a:pt x="22275" y="148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9960" y="1697040"/>
            <a:ext cx="1243080" cy="1795320"/>
          </a:xfrm>
          <a:custGeom>
            <a:avLst/>
            <a:gdLst/>
            <a:ahLst/>
            <a:rect l="l" t="t" r="r" b="b"/>
            <a:pathLst>
              <a:path w="3449" h="4987">
                <a:moveTo>
                  <a:pt x="18231" y="4738"/>
                </a:moveTo>
                <a:cubicBezTo>
                  <a:pt x="18231" y="4577"/>
                  <a:pt x="18314" y="4999"/>
                  <a:pt x="18331" y="5159"/>
                </a:cubicBezTo>
                <a:cubicBezTo>
                  <a:pt x="18341" y="5258"/>
                  <a:pt x="18331" y="5379"/>
                  <a:pt x="18331" y="5482"/>
                </a:cubicBezTo>
              </a:path>
              <a:path w="3449" h="4987">
                <a:moveTo>
                  <a:pt x="17363" y="5829"/>
                </a:moveTo>
                <a:cubicBezTo>
                  <a:pt x="17363" y="5965"/>
                  <a:pt x="17425" y="6074"/>
                  <a:pt x="17462" y="6201"/>
                </a:cubicBezTo>
                <a:cubicBezTo>
                  <a:pt x="17462" y="6209"/>
                  <a:pt x="17462" y="6218"/>
                  <a:pt x="17462" y="6226"/>
                </a:cubicBezTo>
              </a:path>
              <a:path w="3449" h="4987">
                <a:moveTo>
                  <a:pt x="18182" y="5804"/>
                </a:moveTo>
                <a:cubicBezTo>
                  <a:pt x="18212" y="5743"/>
                  <a:pt x="18339" y="5638"/>
                  <a:pt x="18430" y="5680"/>
                </a:cubicBezTo>
                <a:cubicBezTo>
                  <a:pt x="18586" y="5753"/>
                  <a:pt x="18425" y="6028"/>
                  <a:pt x="18331" y="6077"/>
                </a:cubicBezTo>
                <a:cubicBezTo>
                  <a:pt x="18323" y="6069"/>
                  <a:pt x="18314" y="6060"/>
                  <a:pt x="18306" y="6052"/>
                </a:cubicBezTo>
                <a:cubicBezTo>
                  <a:pt x="18375" y="6024"/>
                  <a:pt x="18547" y="6012"/>
                  <a:pt x="18529" y="6152"/>
                </a:cubicBezTo>
                <a:cubicBezTo>
                  <a:pt x="18514" y="6264"/>
                  <a:pt x="18356" y="6368"/>
                  <a:pt x="18256" y="6300"/>
                </a:cubicBezTo>
                <a:cubicBezTo>
                  <a:pt x="18256" y="6276"/>
                  <a:pt x="18256" y="6268"/>
                  <a:pt x="18281" y="6276"/>
                </a:cubicBezTo>
              </a:path>
              <a:path w="3449" h="4987">
                <a:moveTo>
                  <a:pt x="17587" y="6573"/>
                </a:moveTo>
                <a:cubicBezTo>
                  <a:pt x="17977" y="6491"/>
                  <a:pt x="18364" y="6410"/>
                  <a:pt x="18752" y="6300"/>
                </a:cubicBezTo>
                <a:cubicBezTo>
                  <a:pt x="19254" y="6157"/>
                  <a:pt x="19756" y="6018"/>
                  <a:pt x="20265" y="5904"/>
                </a:cubicBezTo>
                <a:cubicBezTo>
                  <a:pt x="20273" y="5904"/>
                  <a:pt x="20282" y="5904"/>
                  <a:pt x="20290" y="5904"/>
                </a:cubicBezTo>
              </a:path>
              <a:path w="3449" h="4987">
                <a:moveTo>
                  <a:pt x="19273" y="5432"/>
                </a:moveTo>
                <a:cubicBezTo>
                  <a:pt x="19220" y="5632"/>
                  <a:pt x="19175" y="5745"/>
                  <a:pt x="19273" y="5928"/>
                </a:cubicBezTo>
                <a:cubicBezTo>
                  <a:pt x="19404" y="5858"/>
                  <a:pt x="19572" y="5694"/>
                  <a:pt x="19372" y="5556"/>
                </a:cubicBezTo>
                <a:cubicBezTo>
                  <a:pt x="19339" y="5548"/>
                  <a:pt x="19306" y="5539"/>
                  <a:pt x="19273" y="5531"/>
                </a:cubicBezTo>
                <a:cubicBezTo>
                  <a:pt x="19398" y="5490"/>
                  <a:pt x="19521" y="5410"/>
                  <a:pt x="19645" y="5358"/>
                </a:cubicBezTo>
                <a:cubicBezTo>
                  <a:pt x="19653" y="5358"/>
                  <a:pt x="19662" y="5358"/>
                  <a:pt x="19670" y="5358"/>
                </a:cubicBezTo>
                <a:cubicBezTo>
                  <a:pt x="19683" y="5423"/>
                  <a:pt x="19673" y="5749"/>
                  <a:pt x="19819" y="5705"/>
                </a:cubicBezTo>
                <a:cubicBezTo>
                  <a:pt x="19954" y="5664"/>
                  <a:pt x="20009" y="5348"/>
                  <a:pt x="19844" y="5308"/>
                </a:cubicBezTo>
                <a:cubicBezTo>
                  <a:pt x="19819" y="5316"/>
                  <a:pt x="19794" y="5325"/>
                  <a:pt x="19769" y="5333"/>
                </a:cubicBezTo>
              </a:path>
              <a:path w="3449" h="4987">
                <a:moveTo>
                  <a:pt x="18479" y="6772"/>
                </a:moveTo>
                <a:cubicBezTo>
                  <a:pt x="18466" y="6866"/>
                  <a:pt x="18455" y="6949"/>
                  <a:pt x="18455" y="7045"/>
                </a:cubicBezTo>
                <a:cubicBezTo>
                  <a:pt x="18576" y="7045"/>
                  <a:pt x="18684" y="7037"/>
                  <a:pt x="18777" y="6945"/>
                </a:cubicBezTo>
                <a:cubicBezTo>
                  <a:pt x="18777" y="6937"/>
                  <a:pt x="18777" y="6929"/>
                  <a:pt x="18777" y="6921"/>
                </a:cubicBezTo>
              </a:path>
              <a:path w="3449" h="4987">
                <a:moveTo>
                  <a:pt x="18703" y="6623"/>
                </a:moveTo>
                <a:cubicBezTo>
                  <a:pt x="18719" y="6859"/>
                  <a:pt x="18767" y="7083"/>
                  <a:pt x="18802" y="7317"/>
                </a:cubicBezTo>
                <a:cubicBezTo>
                  <a:pt x="18802" y="7325"/>
                  <a:pt x="18802" y="7334"/>
                  <a:pt x="18802" y="7342"/>
                </a:cubicBezTo>
              </a:path>
              <a:path w="3449" h="4987">
                <a:moveTo>
                  <a:pt x="18107" y="8037"/>
                </a:moveTo>
                <a:cubicBezTo>
                  <a:pt x="18238" y="8121"/>
                  <a:pt x="18345" y="8293"/>
                  <a:pt x="18479" y="8359"/>
                </a:cubicBezTo>
                <a:cubicBezTo>
                  <a:pt x="18479" y="8351"/>
                  <a:pt x="18479" y="8342"/>
                  <a:pt x="18479" y="8334"/>
                </a:cubicBezTo>
              </a:path>
              <a:path w="3449" h="4987">
                <a:moveTo>
                  <a:pt x="20191" y="7367"/>
                </a:moveTo>
                <a:cubicBezTo>
                  <a:pt x="20209" y="7296"/>
                  <a:pt x="20329" y="7289"/>
                  <a:pt x="20389" y="7342"/>
                </a:cubicBezTo>
                <a:cubicBezTo>
                  <a:pt x="20577" y="7506"/>
                  <a:pt x="20434" y="7825"/>
                  <a:pt x="20241" y="7913"/>
                </a:cubicBezTo>
                <a:cubicBezTo>
                  <a:pt x="20208" y="7913"/>
                  <a:pt x="20174" y="7913"/>
                  <a:pt x="20141" y="7913"/>
                </a:cubicBezTo>
                <a:cubicBezTo>
                  <a:pt x="20094" y="7815"/>
                  <a:pt x="20117" y="7776"/>
                  <a:pt x="20241" y="7764"/>
                </a:cubicBezTo>
                <a:cubicBezTo>
                  <a:pt x="20424" y="7747"/>
                  <a:pt x="20514" y="7823"/>
                  <a:pt x="20563" y="7987"/>
                </a:cubicBezTo>
              </a:path>
              <a:path w="3449" h="4987">
                <a:moveTo>
                  <a:pt x="18107" y="8706"/>
                </a:moveTo>
                <a:cubicBezTo>
                  <a:pt x="18225" y="8653"/>
                  <a:pt x="18374" y="8593"/>
                  <a:pt x="18504" y="8558"/>
                </a:cubicBezTo>
                <a:cubicBezTo>
                  <a:pt x="19017" y="8420"/>
                  <a:pt x="19545" y="8354"/>
                  <a:pt x="20067" y="8260"/>
                </a:cubicBezTo>
                <a:cubicBezTo>
                  <a:pt x="20315" y="8216"/>
                  <a:pt x="20565" y="8148"/>
                  <a:pt x="20811" y="8111"/>
                </a:cubicBezTo>
              </a:path>
              <a:path w="3449" h="4987">
                <a:moveTo>
                  <a:pt x="19943" y="8607"/>
                </a:moveTo>
                <a:cubicBezTo>
                  <a:pt x="19849" y="8692"/>
                  <a:pt x="19767" y="8748"/>
                  <a:pt x="19645" y="8781"/>
                </a:cubicBezTo>
                <a:cubicBezTo>
                  <a:pt x="19574" y="8800"/>
                  <a:pt x="19635" y="8966"/>
                  <a:pt x="19645" y="9029"/>
                </a:cubicBezTo>
                <a:cubicBezTo>
                  <a:pt x="19645" y="9037"/>
                  <a:pt x="19645" y="9046"/>
                  <a:pt x="19645" y="9054"/>
                </a:cubicBezTo>
                <a:cubicBezTo>
                  <a:pt x="19773" y="9026"/>
                  <a:pt x="19851" y="8945"/>
                  <a:pt x="19968" y="9079"/>
                </a:cubicBezTo>
                <a:cubicBezTo>
                  <a:pt x="20091" y="9219"/>
                  <a:pt x="19847" y="9373"/>
                  <a:pt x="19745" y="9401"/>
                </a:cubicBezTo>
                <a:cubicBezTo>
                  <a:pt x="19693" y="9401"/>
                  <a:pt x="19675" y="9400"/>
                  <a:pt x="19645" y="9376"/>
                </a:cubicBezTo>
              </a:path>
              <a:path w="3449" h="4987">
                <a:moveTo>
                  <a:pt x="18976" y="8930"/>
                </a:moveTo>
                <a:cubicBezTo>
                  <a:pt x="18827" y="8982"/>
                  <a:pt x="18722" y="9046"/>
                  <a:pt x="18604" y="9153"/>
                </a:cubicBezTo>
                <a:cubicBezTo>
                  <a:pt x="18677" y="9233"/>
                  <a:pt x="18987" y="9357"/>
                  <a:pt x="19000" y="9451"/>
                </a:cubicBezTo>
                <a:cubicBezTo>
                  <a:pt x="19018" y="9581"/>
                  <a:pt x="18884" y="9625"/>
                  <a:pt x="18802" y="9649"/>
                </a:cubicBezTo>
                <a:cubicBezTo>
                  <a:pt x="18793" y="9433"/>
                  <a:pt x="18867" y="9268"/>
                  <a:pt x="18901" y="9054"/>
                </a:cubicBezTo>
                <a:cubicBezTo>
                  <a:pt x="18910" y="9001"/>
                  <a:pt x="18910" y="8990"/>
                  <a:pt x="18876" y="8979"/>
                </a:cubicBezTo>
              </a:path>
              <a:path w="3449" h="4987">
                <a:moveTo>
                  <a:pt x="19348" y="9599"/>
                </a:moveTo>
                <a:cubicBezTo>
                  <a:pt x="19344" y="9593"/>
                  <a:pt x="19280" y="9541"/>
                  <a:pt x="19273" y="9550"/>
                </a:cubicBezTo>
                <a:cubicBezTo>
                  <a:pt x="19215" y="9627"/>
                  <a:pt x="19295" y="9666"/>
                  <a:pt x="19348" y="9674"/>
                </a:cubicBezTo>
                <a:cubicBezTo>
                  <a:pt x="19355" y="9615"/>
                  <a:pt x="19366" y="9595"/>
                  <a:pt x="19348" y="9550"/>
                </a:cubicBezTo>
                <a:cubicBezTo>
                  <a:pt x="19302" y="9561"/>
                  <a:pt x="19256" y="9628"/>
                  <a:pt x="19298" y="9674"/>
                </a:cubicBezTo>
                <a:cubicBezTo>
                  <a:pt x="19358" y="9739"/>
                  <a:pt x="19392" y="9625"/>
                  <a:pt x="19372" y="9599"/>
                </a:cubicBezTo>
                <a:cubicBezTo>
                  <a:pt x="19344" y="9599"/>
                  <a:pt x="19334" y="9602"/>
                  <a:pt x="19323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1360" y="5607000"/>
            <a:ext cx="374760" cy="162000"/>
          </a:xfrm>
          <a:custGeom>
            <a:avLst/>
            <a:gdLst/>
            <a:ahLst/>
            <a:rect l="l" t="t" r="r" b="b"/>
            <a:pathLst>
              <a:path w="1043" h="448">
                <a:moveTo>
                  <a:pt x="9674" y="15726"/>
                </a:moveTo>
                <a:cubicBezTo>
                  <a:pt x="9674" y="15682"/>
                  <a:pt x="9677" y="15668"/>
                  <a:pt x="9649" y="15652"/>
                </a:cubicBezTo>
                <a:cubicBezTo>
                  <a:pt x="9510" y="15651"/>
                  <a:pt x="9413" y="15829"/>
                  <a:pt x="9525" y="15974"/>
                </a:cubicBezTo>
                <a:cubicBezTo>
                  <a:pt x="9647" y="16132"/>
                  <a:pt x="9780" y="15917"/>
                  <a:pt x="9847" y="15850"/>
                </a:cubicBezTo>
              </a:path>
              <a:path w="1043" h="448">
                <a:moveTo>
                  <a:pt x="9847" y="15652"/>
                </a:moveTo>
                <a:cubicBezTo>
                  <a:pt x="9847" y="15776"/>
                  <a:pt x="9847" y="15817"/>
                  <a:pt x="9847" y="15900"/>
                </a:cubicBezTo>
                <a:cubicBezTo>
                  <a:pt x="9847" y="16111"/>
                  <a:pt x="9867" y="15717"/>
                  <a:pt x="9872" y="15701"/>
                </a:cubicBezTo>
                <a:cubicBezTo>
                  <a:pt x="9889" y="15668"/>
                  <a:pt x="9905" y="15635"/>
                  <a:pt x="9922" y="15602"/>
                </a:cubicBezTo>
                <a:cubicBezTo>
                  <a:pt x="10146" y="15658"/>
                  <a:pt x="10153" y="15769"/>
                  <a:pt x="10170" y="15999"/>
                </a:cubicBezTo>
                <a:cubicBezTo>
                  <a:pt x="10170" y="16007"/>
                  <a:pt x="10170" y="16016"/>
                  <a:pt x="10170" y="16024"/>
                </a:cubicBezTo>
                <a:cubicBezTo>
                  <a:pt x="10146" y="15883"/>
                  <a:pt x="10144" y="15736"/>
                  <a:pt x="10220" y="15602"/>
                </a:cubicBezTo>
                <a:cubicBezTo>
                  <a:pt x="10236" y="15594"/>
                  <a:pt x="10253" y="15585"/>
                  <a:pt x="10269" y="15577"/>
                </a:cubicBezTo>
                <a:cubicBezTo>
                  <a:pt x="10398" y="15698"/>
                  <a:pt x="10456" y="15765"/>
                  <a:pt x="10468" y="15949"/>
                </a:cubicBezTo>
                <a:cubicBezTo>
                  <a:pt x="10468" y="15989"/>
                  <a:pt x="10479" y="16008"/>
                  <a:pt x="10517" y="160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67840" y="2633760"/>
            <a:ext cx="177840" cy="304560"/>
          </a:xfrm>
          <a:custGeom>
            <a:avLst/>
            <a:gdLst/>
            <a:ahLst/>
            <a:rect l="l" t="t" r="r" b="b"/>
            <a:pathLst>
              <a:path w="497" h="845">
                <a:moveTo>
                  <a:pt x="23614" y="7863"/>
                </a:moveTo>
                <a:cubicBezTo>
                  <a:pt x="23550" y="7783"/>
                  <a:pt x="23441" y="7732"/>
                  <a:pt x="23341" y="7838"/>
                </a:cubicBezTo>
                <a:cubicBezTo>
                  <a:pt x="23197" y="7991"/>
                  <a:pt x="23245" y="8064"/>
                  <a:pt x="23341" y="8161"/>
                </a:cubicBezTo>
                <a:cubicBezTo>
                  <a:pt x="23559" y="8038"/>
                  <a:pt x="23513" y="8002"/>
                  <a:pt x="23564" y="7739"/>
                </a:cubicBezTo>
              </a:path>
              <a:path w="497" h="845">
                <a:moveTo>
                  <a:pt x="23465" y="7317"/>
                </a:moveTo>
                <a:cubicBezTo>
                  <a:pt x="23517" y="7563"/>
                  <a:pt x="23639" y="7792"/>
                  <a:pt x="23713" y="8037"/>
                </a:cubicBezTo>
                <a:cubicBezTo>
                  <a:pt x="23713" y="8062"/>
                  <a:pt x="23713" y="8070"/>
                  <a:pt x="23738" y="80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15080" y="5500800"/>
            <a:ext cx="1374840" cy="312480"/>
          </a:xfrm>
          <a:custGeom>
            <a:avLst/>
            <a:gdLst/>
            <a:ahLst/>
            <a:rect l="l" t="t" r="r" b="b"/>
            <a:pathLst>
              <a:path w="3821" h="869">
                <a:moveTo>
                  <a:pt x="18827" y="15429"/>
                </a:moveTo>
                <a:cubicBezTo>
                  <a:pt x="18863" y="15286"/>
                  <a:pt x="19025" y="15376"/>
                  <a:pt x="19075" y="15478"/>
                </a:cubicBezTo>
                <a:cubicBezTo>
                  <a:pt x="19187" y="15707"/>
                  <a:pt x="18967" y="16048"/>
                  <a:pt x="18703" y="15999"/>
                </a:cubicBezTo>
                <a:cubicBezTo>
                  <a:pt x="18686" y="15974"/>
                  <a:pt x="18670" y="15950"/>
                  <a:pt x="18653" y="15925"/>
                </a:cubicBezTo>
                <a:cubicBezTo>
                  <a:pt x="18758" y="15771"/>
                  <a:pt x="18878" y="15629"/>
                  <a:pt x="19050" y="15825"/>
                </a:cubicBezTo>
                <a:cubicBezTo>
                  <a:pt x="19087" y="15867"/>
                  <a:pt x="19072" y="16009"/>
                  <a:pt x="19100" y="15900"/>
                </a:cubicBezTo>
              </a:path>
              <a:path w="3821" h="869">
                <a:moveTo>
                  <a:pt x="19298" y="15280"/>
                </a:moveTo>
                <a:cubicBezTo>
                  <a:pt x="19356" y="15355"/>
                  <a:pt x="19291" y="15532"/>
                  <a:pt x="19298" y="15627"/>
                </a:cubicBezTo>
                <a:cubicBezTo>
                  <a:pt x="19307" y="15756"/>
                  <a:pt x="19333" y="15848"/>
                  <a:pt x="19397" y="15949"/>
                </a:cubicBezTo>
                <a:cubicBezTo>
                  <a:pt x="19607" y="15912"/>
                  <a:pt x="19658" y="15862"/>
                  <a:pt x="19695" y="15652"/>
                </a:cubicBezTo>
                <a:cubicBezTo>
                  <a:pt x="19511" y="15652"/>
                  <a:pt x="19519" y="15714"/>
                  <a:pt x="19472" y="15875"/>
                </a:cubicBezTo>
                <a:cubicBezTo>
                  <a:pt x="19432" y="16010"/>
                  <a:pt x="19439" y="15996"/>
                  <a:pt x="19546" y="15974"/>
                </a:cubicBezTo>
              </a:path>
              <a:path w="3821" h="869">
                <a:moveTo>
                  <a:pt x="19918" y="15801"/>
                </a:moveTo>
                <a:cubicBezTo>
                  <a:pt x="19929" y="15910"/>
                  <a:pt x="19917" y="15951"/>
                  <a:pt x="19993" y="15850"/>
                </a:cubicBezTo>
              </a:path>
              <a:path w="3821" h="869">
                <a:moveTo>
                  <a:pt x="20117" y="15478"/>
                </a:moveTo>
                <a:cubicBezTo>
                  <a:pt x="20117" y="15623"/>
                  <a:pt x="20129" y="15785"/>
                  <a:pt x="20166" y="15925"/>
                </a:cubicBezTo>
                <a:cubicBezTo>
                  <a:pt x="20213" y="16102"/>
                  <a:pt x="20324" y="16187"/>
                  <a:pt x="20464" y="16024"/>
                </a:cubicBezTo>
                <a:cubicBezTo>
                  <a:pt x="20544" y="15931"/>
                  <a:pt x="20558" y="15889"/>
                  <a:pt x="20513" y="15801"/>
                </a:cubicBezTo>
                <a:cubicBezTo>
                  <a:pt x="20418" y="15905"/>
                  <a:pt x="20385" y="15980"/>
                  <a:pt x="20439" y="16123"/>
                </a:cubicBezTo>
              </a:path>
              <a:path w="3821" h="869">
                <a:moveTo>
                  <a:pt x="20960" y="15701"/>
                </a:moveTo>
                <a:cubicBezTo>
                  <a:pt x="20960" y="15731"/>
                  <a:pt x="20957" y="15599"/>
                  <a:pt x="20886" y="15553"/>
                </a:cubicBezTo>
                <a:cubicBezTo>
                  <a:pt x="20710" y="15438"/>
                  <a:pt x="20625" y="15747"/>
                  <a:pt x="20737" y="15850"/>
                </a:cubicBezTo>
                <a:cubicBezTo>
                  <a:pt x="20876" y="15978"/>
                  <a:pt x="20951" y="15702"/>
                  <a:pt x="20985" y="15627"/>
                </a:cubicBezTo>
                <a:cubicBezTo>
                  <a:pt x="20985" y="15739"/>
                  <a:pt x="21017" y="15888"/>
                  <a:pt x="21034" y="15999"/>
                </a:cubicBezTo>
                <a:cubicBezTo>
                  <a:pt x="21041" y="16049"/>
                  <a:pt x="21059" y="16149"/>
                  <a:pt x="21059" y="16098"/>
                </a:cubicBezTo>
              </a:path>
              <a:path w="3821" h="869">
                <a:moveTo>
                  <a:pt x="21580" y="15925"/>
                </a:moveTo>
                <a:cubicBezTo>
                  <a:pt x="21570" y="15896"/>
                  <a:pt x="21480" y="15825"/>
                  <a:pt x="21431" y="15825"/>
                </a:cubicBezTo>
                <a:cubicBezTo>
                  <a:pt x="21275" y="15825"/>
                  <a:pt x="21297" y="16002"/>
                  <a:pt x="21282" y="16098"/>
                </a:cubicBezTo>
                <a:cubicBezTo>
                  <a:pt x="21492" y="16145"/>
                  <a:pt x="21611" y="16084"/>
                  <a:pt x="21754" y="15900"/>
                </a:cubicBezTo>
                <a:cubicBezTo>
                  <a:pt x="21827" y="15805"/>
                  <a:pt x="21831" y="16014"/>
                  <a:pt x="21853" y="16098"/>
                </a:cubicBezTo>
                <a:cubicBezTo>
                  <a:pt x="21861" y="16106"/>
                  <a:pt x="21870" y="16115"/>
                  <a:pt x="21878" y="16123"/>
                </a:cubicBezTo>
                <a:cubicBezTo>
                  <a:pt x="21878" y="16049"/>
                  <a:pt x="21846" y="15862"/>
                  <a:pt x="21977" y="15875"/>
                </a:cubicBezTo>
                <a:cubicBezTo>
                  <a:pt x="22101" y="15888"/>
                  <a:pt x="22126" y="16007"/>
                  <a:pt x="22151" y="16098"/>
                </a:cubicBezTo>
                <a:cubicBezTo>
                  <a:pt x="22163" y="15998"/>
                  <a:pt x="22187" y="15772"/>
                  <a:pt x="22349" y="15875"/>
                </a:cubicBezTo>
                <a:cubicBezTo>
                  <a:pt x="22426" y="15924"/>
                  <a:pt x="22439" y="16056"/>
                  <a:pt x="22473" y="160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44840" y="5786280"/>
            <a:ext cx="81000" cy="54000"/>
          </a:xfrm>
          <a:custGeom>
            <a:avLst/>
            <a:gdLst/>
            <a:ahLst/>
            <a:rect l="l" t="t" r="r" b="b"/>
            <a:pathLst>
              <a:path w="225" h="150">
                <a:moveTo>
                  <a:pt x="7169" y="16073"/>
                </a:moveTo>
                <a:cubicBezTo>
                  <a:pt x="7131" y="16082"/>
                  <a:pt x="7055" y="16149"/>
                  <a:pt x="7094" y="16197"/>
                </a:cubicBezTo>
                <a:cubicBezTo>
                  <a:pt x="7135" y="16217"/>
                  <a:pt x="7141" y="16226"/>
                  <a:pt x="7169" y="16222"/>
                </a:cubicBezTo>
                <a:cubicBezTo>
                  <a:pt x="7193" y="16148"/>
                  <a:pt x="7201" y="16143"/>
                  <a:pt x="7193" y="16073"/>
                </a:cubicBezTo>
                <a:cubicBezTo>
                  <a:pt x="7184" y="16078"/>
                  <a:pt x="7009" y="16165"/>
                  <a:pt x="7069" y="16197"/>
                </a:cubicBezTo>
                <a:cubicBezTo>
                  <a:pt x="7152" y="16242"/>
                  <a:pt x="7253" y="16160"/>
                  <a:pt x="7243" y="16073"/>
                </a:cubicBezTo>
                <a:cubicBezTo>
                  <a:pt x="7218" y="16073"/>
                  <a:pt x="7210" y="16073"/>
                  <a:pt x="7193" y="16073"/>
                </a:cubicBezTo>
                <a:cubicBezTo>
                  <a:pt x="7161" y="16106"/>
                  <a:pt x="7081" y="16231"/>
                  <a:pt x="7218" y="16173"/>
                </a:cubicBezTo>
                <a:cubicBezTo>
                  <a:pt x="7241" y="16163"/>
                  <a:pt x="7364" y="16021"/>
                  <a:pt x="7243" y="16098"/>
                </a:cubicBezTo>
                <a:cubicBezTo>
                  <a:pt x="7220" y="16121"/>
                  <a:pt x="7212" y="16125"/>
                  <a:pt x="7218" y="161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70840" y="5054760"/>
            <a:ext cx="1562040" cy="71280"/>
          </a:xfrm>
          <a:custGeom>
            <a:avLst/>
            <a:gdLst/>
            <a:ahLst/>
            <a:rect l="l" t="t" r="r" b="b"/>
            <a:pathLst>
              <a:path w="4342" h="200">
                <a:moveTo>
                  <a:pt x="19918" y="14238"/>
                </a:moveTo>
                <a:cubicBezTo>
                  <a:pt x="20363" y="14101"/>
                  <a:pt x="20817" y="14087"/>
                  <a:pt x="21282" y="14064"/>
                </a:cubicBezTo>
                <a:cubicBezTo>
                  <a:pt x="22059" y="14025"/>
                  <a:pt x="22836" y="14039"/>
                  <a:pt x="23614" y="14039"/>
                </a:cubicBezTo>
                <a:cubicBezTo>
                  <a:pt x="23679" y="14039"/>
                  <a:pt x="24182" y="14059"/>
                  <a:pt x="24259" y="140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bjective:  Students will identify and describe parts of a circl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teor crater has a diameter of about 1175m. Find the circumference of the crater to the nearest me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2697120" cy="1636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66960" y="4340160"/>
            <a:ext cx="490320" cy="108000"/>
          </a:xfrm>
          <a:custGeom>
            <a:avLst/>
            <a:gdLst/>
            <a:ahLst/>
            <a:rect l="l" t="t" r="r" b="b"/>
            <a:pathLst>
              <a:path w="1365" h="299">
                <a:moveTo>
                  <a:pt x="5184" y="12353"/>
                </a:moveTo>
                <a:cubicBezTo>
                  <a:pt x="5192" y="12353"/>
                  <a:pt x="5201" y="12353"/>
                  <a:pt x="5209" y="12353"/>
                </a:cubicBezTo>
              </a:path>
              <a:path w="1365" h="299">
                <a:moveTo>
                  <a:pt x="6052" y="12055"/>
                </a:moveTo>
                <a:cubicBezTo>
                  <a:pt x="6020" y="12146"/>
                  <a:pt x="5950" y="12255"/>
                  <a:pt x="6077" y="12303"/>
                </a:cubicBezTo>
                <a:cubicBezTo>
                  <a:pt x="6186" y="12344"/>
                  <a:pt x="6439" y="12359"/>
                  <a:pt x="6524" y="12254"/>
                </a:cubicBezTo>
                <a:cubicBezTo>
                  <a:pt x="6532" y="12221"/>
                  <a:pt x="6540" y="12187"/>
                  <a:pt x="6548" y="121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89080" y="4857840"/>
            <a:ext cx="403200" cy="285840"/>
          </a:xfrm>
          <a:custGeom>
            <a:avLst/>
            <a:gdLst/>
            <a:ahLst/>
            <a:rect l="l" t="t" r="r" b="b"/>
            <a:pathLst>
              <a:path w="1118" h="795">
                <a:moveTo>
                  <a:pt x="5804" y="14238"/>
                </a:moveTo>
                <a:cubicBezTo>
                  <a:pt x="5804" y="14280"/>
                  <a:pt x="5796" y="14296"/>
                  <a:pt x="5829" y="14288"/>
                </a:cubicBezTo>
              </a:path>
              <a:path w="1118" h="795">
                <a:moveTo>
                  <a:pt x="6424" y="13618"/>
                </a:moveTo>
                <a:cubicBezTo>
                  <a:pt x="6586" y="13575"/>
                  <a:pt x="6767" y="13555"/>
                  <a:pt x="6921" y="13494"/>
                </a:cubicBezTo>
                <a:cubicBezTo>
                  <a:pt x="6913" y="13494"/>
                  <a:pt x="6904" y="13494"/>
                  <a:pt x="6896" y="134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240" y="4894200"/>
            <a:ext cx="527040" cy="285840"/>
          </a:xfrm>
          <a:custGeom>
            <a:avLst/>
            <a:gdLst/>
            <a:ahLst/>
            <a:rect l="l" t="t" r="r" b="b"/>
            <a:pathLst>
              <a:path w="1464" h="795">
                <a:moveTo>
                  <a:pt x="2208" y="13742"/>
                </a:moveTo>
                <a:cubicBezTo>
                  <a:pt x="2328" y="13682"/>
                  <a:pt x="2519" y="13483"/>
                  <a:pt x="2654" y="13667"/>
                </a:cubicBezTo>
                <a:cubicBezTo>
                  <a:pt x="2751" y="13799"/>
                  <a:pt x="2615" y="14018"/>
                  <a:pt x="2530" y="14089"/>
                </a:cubicBezTo>
                <a:cubicBezTo>
                  <a:pt x="2622" y="14023"/>
                  <a:pt x="2816" y="13996"/>
                  <a:pt x="2778" y="14188"/>
                </a:cubicBezTo>
                <a:cubicBezTo>
                  <a:pt x="2743" y="14367"/>
                  <a:pt x="2322" y="14449"/>
                  <a:pt x="2356" y="14312"/>
                </a:cubicBezTo>
                <a:cubicBezTo>
                  <a:pt x="2397" y="14254"/>
                  <a:pt x="2439" y="14197"/>
                  <a:pt x="2480" y="14139"/>
                </a:cubicBezTo>
              </a:path>
              <a:path w="1464" h="795">
                <a:moveTo>
                  <a:pt x="3200" y="13618"/>
                </a:moveTo>
                <a:cubicBezTo>
                  <a:pt x="3125" y="13667"/>
                  <a:pt x="3107" y="13970"/>
                  <a:pt x="3101" y="14064"/>
                </a:cubicBezTo>
                <a:cubicBezTo>
                  <a:pt x="3101" y="14226"/>
                  <a:pt x="3081" y="14262"/>
                  <a:pt x="3150" y="14337"/>
                </a:cubicBezTo>
                <a:cubicBezTo>
                  <a:pt x="3430" y="14305"/>
                  <a:pt x="3555" y="14271"/>
                  <a:pt x="3671" y="14015"/>
                </a:cubicBezTo>
                <a:cubicBezTo>
                  <a:pt x="3501" y="14033"/>
                  <a:pt x="3373" y="14103"/>
                  <a:pt x="3324" y="14288"/>
                </a:cubicBezTo>
                <a:cubicBezTo>
                  <a:pt x="3352" y="14343"/>
                  <a:pt x="3367" y="14359"/>
                  <a:pt x="3423" y="1433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00120" y="4929120"/>
            <a:ext cx="482760" cy="277920"/>
          </a:xfrm>
          <a:custGeom>
            <a:avLst/>
            <a:gdLst/>
            <a:ahLst/>
            <a:rect l="l" t="t" r="r" b="b"/>
            <a:pathLst>
              <a:path w="1341" h="770">
                <a:moveTo>
                  <a:pt x="4589" y="13791"/>
                </a:moveTo>
                <a:cubicBezTo>
                  <a:pt x="4462" y="13785"/>
                  <a:pt x="4229" y="13761"/>
                  <a:pt x="4167" y="13915"/>
                </a:cubicBezTo>
                <a:cubicBezTo>
                  <a:pt x="4167" y="13940"/>
                  <a:pt x="4167" y="13965"/>
                  <a:pt x="4167" y="13990"/>
                </a:cubicBezTo>
                <a:cubicBezTo>
                  <a:pt x="4222" y="14030"/>
                  <a:pt x="4642" y="14242"/>
                  <a:pt x="4514" y="14337"/>
                </a:cubicBezTo>
                <a:cubicBezTo>
                  <a:pt x="4373" y="14385"/>
                  <a:pt x="4331" y="14404"/>
                  <a:pt x="4242" y="14337"/>
                </a:cubicBezTo>
                <a:cubicBezTo>
                  <a:pt x="4308" y="14088"/>
                  <a:pt x="4502" y="13963"/>
                  <a:pt x="4638" y="13742"/>
                </a:cubicBezTo>
                <a:cubicBezTo>
                  <a:pt x="4658" y="13710"/>
                  <a:pt x="4583" y="13783"/>
                  <a:pt x="4564" y="13816"/>
                </a:cubicBezTo>
              </a:path>
              <a:path w="1341" h="770">
                <a:moveTo>
                  <a:pt x="5407" y="13841"/>
                </a:moveTo>
                <a:cubicBezTo>
                  <a:pt x="5256" y="13711"/>
                  <a:pt x="5154" y="13609"/>
                  <a:pt x="4986" y="13791"/>
                </a:cubicBezTo>
                <a:cubicBezTo>
                  <a:pt x="4914" y="13910"/>
                  <a:pt x="4888" y="13945"/>
                  <a:pt x="4936" y="14039"/>
                </a:cubicBezTo>
                <a:cubicBezTo>
                  <a:pt x="5181" y="14086"/>
                  <a:pt x="5275" y="14034"/>
                  <a:pt x="5383" y="13791"/>
                </a:cubicBezTo>
                <a:cubicBezTo>
                  <a:pt x="5383" y="13783"/>
                  <a:pt x="5383" y="13775"/>
                  <a:pt x="5383" y="13767"/>
                </a:cubicBezTo>
                <a:cubicBezTo>
                  <a:pt x="5383" y="13910"/>
                  <a:pt x="5365" y="14455"/>
                  <a:pt x="5407" y="14412"/>
                </a:cubicBezTo>
                <a:cubicBezTo>
                  <a:pt x="5440" y="14379"/>
                  <a:pt x="5474" y="14345"/>
                  <a:pt x="5507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51080" y="4894200"/>
            <a:ext cx="195120" cy="258840"/>
          </a:xfrm>
          <a:custGeom>
            <a:avLst/>
            <a:gdLst/>
            <a:ahLst/>
            <a:rect l="l" t="t" r="r" b="b"/>
            <a:pathLst>
              <a:path w="546" h="720">
                <a:moveTo>
                  <a:pt x="6524" y="13593"/>
                </a:moveTo>
                <a:cubicBezTo>
                  <a:pt x="6439" y="13593"/>
                  <a:pt x="6351" y="13561"/>
                  <a:pt x="6325" y="13643"/>
                </a:cubicBezTo>
                <a:cubicBezTo>
                  <a:pt x="6289" y="13756"/>
                  <a:pt x="6263" y="13873"/>
                  <a:pt x="6251" y="13990"/>
                </a:cubicBezTo>
                <a:cubicBezTo>
                  <a:pt x="6376" y="13969"/>
                  <a:pt x="6417" y="13853"/>
                  <a:pt x="6548" y="13841"/>
                </a:cubicBezTo>
                <a:cubicBezTo>
                  <a:pt x="6717" y="13825"/>
                  <a:pt x="6870" y="14002"/>
                  <a:pt x="6772" y="14163"/>
                </a:cubicBezTo>
                <a:cubicBezTo>
                  <a:pt x="6656" y="14353"/>
                  <a:pt x="6459" y="14324"/>
                  <a:pt x="6276" y="142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0960" y="5607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088" y="15577"/>
                </a:moveTo>
                <a:lnTo>
                  <a:pt x="11088" y="1557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0200" y="5510160"/>
            <a:ext cx="1197000" cy="320760"/>
          </a:xfrm>
          <a:custGeom>
            <a:avLst/>
            <a:gdLst/>
            <a:ahLst/>
            <a:rect l="l" t="t" r="r" b="b"/>
            <a:pathLst>
              <a:path w="3325" h="894">
                <a:moveTo>
                  <a:pt x="6945" y="15404"/>
                </a:moveTo>
                <a:cubicBezTo>
                  <a:pt x="6999" y="15384"/>
                  <a:pt x="7457" y="15231"/>
                  <a:pt x="7417" y="15429"/>
                </a:cubicBezTo>
                <a:cubicBezTo>
                  <a:pt x="7390" y="15560"/>
                  <a:pt x="7241" y="15634"/>
                  <a:pt x="7144" y="15701"/>
                </a:cubicBezTo>
                <a:cubicBezTo>
                  <a:pt x="7293" y="15685"/>
                  <a:pt x="7469" y="15596"/>
                  <a:pt x="7541" y="15801"/>
                </a:cubicBezTo>
                <a:cubicBezTo>
                  <a:pt x="7628" y="16048"/>
                  <a:pt x="7238" y="16101"/>
                  <a:pt x="7094" y="16073"/>
                </a:cubicBezTo>
                <a:cubicBezTo>
                  <a:pt x="7017" y="16035"/>
                  <a:pt x="6967" y="16036"/>
                  <a:pt x="7020" y="15999"/>
                </a:cubicBezTo>
              </a:path>
              <a:path w="3325" h="894">
                <a:moveTo>
                  <a:pt x="7789" y="15999"/>
                </a:moveTo>
                <a:cubicBezTo>
                  <a:pt x="7777" y="16081"/>
                  <a:pt x="7764" y="16231"/>
                  <a:pt x="7764" y="16148"/>
                </a:cubicBezTo>
              </a:path>
              <a:path w="3325" h="894">
                <a:moveTo>
                  <a:pt x="8136" y="15304"/>
                </a:moveTo>
                <a:cubicBezTo>
                  <a:pt x="8121" y="15498"/>
                  <a:pt x="8055" y="15762"/>
                  <a:pt x="8136" y="15949"/>
                </a:cubicBezTo>
                <a:cubicBezTo>
                  <a:pt x="8228" y="16161"/>
                  <a:pt x="8518" y="16080"/>
                  <a:pt x="8582" y="15900"/>
                </a:cubicBezTo>
                <a:cubicBezTo>
                  <a:pt x="8582" y="15859"/>
                  <a:pt x="8582" y="15817"/>
                  <a:pt x="8582" y="15776"/>
                </a:cubicBezTo>
                <a:cubicBezTo>
                  <a:pt x="8487" y="15769"/>
                  <a:pt x="8277" y="15822"/>
                  <a:pt x="8285" y="15974"/>
                </a:cubicBezTo>
                <a:cubicBezTo>
                  <a:pt x="8301" y="15982"/>
                  <a:pt x="8318" y="15991"/>
                  <a:pt x="8334" y="15999"/>
                </a:cubicBezTo>
              </a:path>
              <a:path w="3325" h="894">
                <a:moveTo>
                  <a:pt x="9351" y="15577"/>
                </a:moveTo>
                <a:cubicBezTo>
                  <a:pt x="9393" y="15467"/>
                  <a:pt x="9351" y="15380"/>
                  <a:pt x="9227" y="15329"/>
                </a:cubicBezTo>
                <a:cubicBezTo>
                  <a:pt x="9056" y="15258"/>
                  <a:pt x="8905" y="15543"/>
                  <a:pt x="8954" y="15677"/>
                </a:cubicBezTo>
                <a:cubicBezTo>
                  <a:pt x="8979" y="15693"/>
                  <a:pt x="9004" y="15710"/>
                  <a:pt x="9029" y="15726"/>
                </a:cubicBezTo>
                <a:cubicBezTo>
                  <a:pt x="9185" y="15662"/>
                  <a:pt x="9263" y="15602"/>
                  <a:pt x="9351" y="15453"/>
                </a:cubicBezTo>
                <a:cubicBezTo>
                  <a:pt x="9329" y="15636"/>
                  <a:pt x="9327" y="15814"/>
                  <a:pt x="9327" y="15999"/>
                </a:cubicBezTo>
                <a:cubicBezTo>
                  <a:pt x="9327" y="16024"/>
                  <a:pt x="9327" y="16048"/>
                  <a:pt x="9327" y="16073"/>
                </a:cubicBezTo>
              </a:path>
              <a:path w="3325" h="894">
                <a:moveTo>
                  <a:pt x="9922" y="15429"/>
                </a:moveTo>
                <a:cubicBezTo>
                  <a:pt x="9835" y="15429"/>
                  <a:pt x="9833" y="15416"/>
                  <a:pt x="9773" y="15528"/>
                </a:cubicBezTo>
                <a:cubicBezTo>
                  <a:pt x="9675" y="15713"/>
                  <a:pt x="9552" y="16015"/>
                  <a:pt x="9847" y="16098"/>
                </a:cubicBezTo>
                <a:cubicBezTo>
                  <a:pt x="10146" y="16182"/>
                  <a:pt x="10278" y="15952"/>
                  <a:pt x="10269" y="15701"/>
                </a:cubicBezTo>
                <a:cubicBezTo>
                  <a:pt x="10262" y="15500"/>
                  <a:pt x="10119" y="15383"/>
                  <a:pt x="9922" y="15404"/>
                </a:cubicBezTo>
                <a:cubicBezTo>
                  <a:pt x="9905" y="15412"/>
                  <a:pt x="9889" y="15421"/>
                  <a:pt x="9872" y="154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90960" y="5572080"/>
            <a:ext cx="509760" cy="162000"/>
          </a:xfrm>
          <a:custGeom>
            <a:avLst/>
            <a:gdLst/>
            <a:ahLst/>
            <a:rect l="l" t="t" r="r" b="b"/>
            <a:pathLst>
              <a:path w="1415" h="448">
                <a:moveTo>
                  <a:pt x="11088" y="15577"/>
                </a:moveTo>
                <a:cubicBezTo>
                  <a:pt x="11110" y="15533"/>
                  <a:pt x="11071" y="15504"/>
                  <a:pt x="11112" y="15627"/>
                </a:cubicBezTo>
                <a:cubicBezTo>
                  <a:pt x="11159" y="15766"/>
                  <a:pt x="11173" y="15806"/>
                  <a:pt x="11187" y="15900"/>
                </a:cubicBezTo>
                <a:cubicBezTo>
                  <a:pt x="11160" y="15819"/>
                  <a:pt x="11173" y="15785"/>
                  <a:pt x="11187" y="15701"/>
                </a:cubicBezTo>
                <a:cubicBezTo>
                  <a:pt x="11211" y="15558"/>
                  <a:pt x="11292" y="15388"/>
                  <a:pt x="11460" y="15528"/>
                </a:cubicBezTo>
                <a:cubicBezTo>
                  <a:pt x="11540" y="15594"/>
                  <a:pt x="11624" y="15716"/>
                  <a:pt x="11683" y="15801"/>
                </a:cubicBezTo>
                <a:cubicBezTo>
                  <a:pt x="11661" y="15648"/>
                  <a:pt x="11658" y="15520"/>
                  <a:pt x="11832" y="15478"/>
                </a:cubicBezTo>
                <a:cubicBezTo>
                  <a:pt x="12006" y="15436"/>
                  <a:pt x="12001" y="15727"/>
                  <a:pt x="12055" y="15825"/>
                </a:cubicBezTo>
                <a:cubicBezTo>
                  <a:pt x="12169" y="16034"/>
                  <a:pt x="12365" y="15901"/>
                  <a:pt x="12502" y="158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00120" y="3840120"/>
            <a:ext cx="27000" cy="320760"/>
          </a:xfrm>
          <a:custGeom>
            <a:avLst/>
            <a:gdLst/>
            <a:ahLst/>
            <a:rect l="l" t="t" r="r" b="b"/>
            <a:pathLst>
              <a:path w="76" h="894">
                <a:moveTo>
                  <a:pt x="4167" y="10666"/>
                </a:moveTo>
                <a:cubicBezTo>
                  <a:pt x="4243" y="10767"/>
                  <a:pt x="4205" y="11063"/>
                  <a:pt x="4217" y="11212"/>
                </a:cubicBezTo>
                <a:cubicBezTo>
                  <a:pt x="4228" y="11344"/>
                  <a:pt x="4242" y="11642"/>
                  <a:pt x="4242" y="1150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7040" y="3867120"/>
            <a:ext cx="34920" cy="276120"/>
          </a:xfrm>
          <a:custGeom>
            <a:avLst/>
            <a:gdLst/>
            <a:ahLst/>
            <a:rect l="l" t="t" r="r" b="b"/>
            <a:pathLst>
              <a:path w="100" h="770">
                <a:moveTo>
                  <a:pt x="4713" y="10740"/>
                </a:moveTo>
                <a:cubicBezTo>
                  <a:pt x="4771" y="10893"/>
                  <a:pt x="4759" y="11113"/>
                  <a:pt x="4762" y="11286"/>
                </a:cubicBezTo>
                <a:cubicBezTo>
                  <a:pt x="4763" y="11370"/>
                  <a:pt x="4771" y="11568"/>
                  <a:pt x="4787" y="11485"/>
                </a:cubicBezTo>
                <a:cubicBezTo>
                  <a:pt x="4795" y="11444"/>
                  <a:pt x="4804" y="11402"/>
                  <a:pt x="4812" y="113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03240" y="3857760"/>
            <a:ext cx="179640" cy="268200"/>
          </a:xfrm>
          <a:custGeom>
            <a:avLst/>
            <a:gdLst/>
            <a:ahLst/>
            <a:rect l="l" t="t" r="r" b="b"/>
            <a:pathLst>
              <a:path w="497" h="745">
                <a:moveTo>
                  <a:pt x="5011" y="10765"/>
                </a:moveTo>
                <a:cubicBezTo>
                  <a:pt x="5132" y="10765"/>
                  <a:pt x="5264" y="10757"/>
                  <a:pt x="5383" y="10740"/>
                </a:cubicBezTo>
                <a:cubicBezTo>
                  <a:pt x="5457" y="10722"/>
                  <a:pt x="5464" y="10714"/>
                  <a:pt x="5507" y="10716"/>
                </a:cubicBezTo>
                <a:cubicBezTo>
                  <a:pt x="5459" y="10904"/>
                  <a:pt x="5400" y="11093"/>
                  <a:pt x="5358" y="11286"/>
                </a:cubicBezTo>
                <a:cubicBezTo>
                  <a:pt x="5342" y="11360"/>
                  <a:pt x="5333" y="11485"/>
                  <a:pt x="5333" y="114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3813120"/>
            <a:ext cx="169920" cy="285840"/>
          </a:xfrm>
          <a:custGeom>
            <a:avLst/>
            <a:gdLst/>
            <a:ahLst/>
            <a:rect l="l" t="t" r="r" b="b"/>
            <a:pathLst>
              <a:path w="473" h="794">
                <a:moveTo>
                  <a:pt x="6102" y="10592"/>
                </a:moveTo>
                <a:cubicBezTo>
                  <a:pt x="6057" y="10606"/>
                  <a:pt x="5934" y="10608"/>
                  <a:pt x="5904" y="10641"/>
                </a:cubicBezTo>
                <a:cubicBezTo>
                  <a:pt x="5827" y="10727"/>
                  <a:pt x="5795" y="10876"/>
                  <a:pt x="5779" y="10988"/>
                </a:cubicBezTo>
                <a:cubicBezTo>
                  <a:pt x="5903" y="10953"/>
                  <a:pt x="6035" y="10840"/>
                  <a:pt x="6176" y="10889"/>
                </a:cubicBezTo>
                <a:cubicBezTo>
                  <a:pt x="6381" y="10960"/>
                  <a:pt x="6188" y="11240"/>
                  <a:pt x="6102" y="11311"/>
                </a:cubicBezTo>
                <a:cubicBezTo>
                  <a:pt x="5988" y="11379"/>
                  <a:pt x="5957" y="11409"/>
                  <a:pt x="5879" y="1133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09800" y="4286160"/>
            <a:ext cx="125280" cy="187560"/>
          </a:xfrm>
          <a:custGeom>
            <a:avLst/>
            <a:gdLst/>
            <a:ahLst/>
            <a:rect l="l" t="t" r="r" b="b"/>
            <a:pathLst>
              <a:path w="348" h="522">
                <a:moveTo>
                  <a:pt x="2803" y="11906"/>
                </a:moveTo>
                <a:cubicBezTo>
                  <a:pt x="2912" y="12048"/>
                  <a:pt x="3080" y="12215"/>
                  <a:pt x="3150" y="12378"/>
                </a:cubicBezTo>
                <a:cubicBezTo>
                  <a:pt x="3150" y="12419"/>
                  <a:pt x="3150" y="12443"/>
                  <a:pt x="3150" y="124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27080" y="4232160"/>
            <a:ext cx="115920" cy="295560"/>
          </a:xfrm>
          <a:custGeom>
            <a:avLst/>
            <a:gdLst/>
            <a:ahLst/>
            <a:rect l="l" t="t" r="r" b="b"/>
            <a:pathLst>
              <a:path w="323" h="820">
                <a:moveTo>
                  <a:pt x="3175" y="11757"/>
                </a:moveTo>
                <a:cubicBezTo>
                  <a:pt x="3093" y="12053"/>
                  <a:pt x="2994" y="12305"/>
                  <a:pt x="2853" y="125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6040" y="4303800"/>
            <a:ext cx="152280" cy="233280"/>
          </a:xfrm>
          <a:custGeom>
            <a:avLst/>
            <a:gdLst/>
            <a:ahLst/>
            <a:rect l="l" t="t" r="r" b="b"/>
            <a:pathLst>
              <a:path w="422" h="646">
                <a:moveTo>
                  <a:pt x="4564" y="12105"/>
                </a:moveTo>
                <a:cubicBezTo>
                  <a:pt x="4665" y="12040"/>
                  <a:pt x="4750" y="11995"/>
                  <a:pt x="4862" y="11956"/>
                </a:cubicBezTo>
                <a:cubicBezTo>
                  <a:pt x="4902" y="12142"/>
                  <a:pt x="4877" y="12200"/>
                  <a:pt x="4738" y="12328"/>
                </a:cubicBezTo>
                <a:cubicBezTo>
                  <a:pt x="4828" y="12236"/>
                  <a:pt x="4950" y="12305"/>
                  <a:pt x="4887" y="12452"/>
                </a:cubicBezTo>
                <a:cubicBezTo>
                  <a:pt x="4836" y="12570"/>
                  <a:pt x="4603" y="12682"/>
                  <a:pt x="4490" y="12576"/>
                </a:cubicBezTo>
                <a:cubicBezTo>
                  <a:pt x="4490" y="12506"/>
                  <a:pt x="4508" y="12480"/>
                  <a:pt x="4589" y="124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17800" y="4313160"/>
            <a:ext cx="9360" cy="187560"/>
          </a:xfrm>
          <a:custGeom>
            <a:avLst/>
            <a:gdLst/>
            <a:ahLst/>
            <a:rect l="l" t="t" r="r" b="b"/>
            <a:pathLst>
              <a:path w="26" h="522">
                <a:moveTo>
                  <a:pt x="5606" y="11981"/>
                </a:moveTo>
                <a:cubicBezTo>
                  <a:pt x="5606" y="12151"/>
                  <a:pt x="5605" y="12313"/>
                  <a:pt x="5631" y="12477"/>
                </a:cubicBezTo>
                <a:cubicBezTo>
                  <a:pt x="5631" y="12485"/>
                  <a:pt x="5631" y="12494"/>
                  <a:pt x="5631" y="125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95360" y="4259160"/>
            <a:ext cx="9720" cy="295200"/>
          </a:xfrm>
          <a:custGeom>
            <a:avLst/>
            <a:gdLst/>
            <a:ahLst/>
            <a:rect l="l" t="t" r="r" b="b"/>
            <a:pathLst>
              <a:path w="26" h="819">
                <a:moveTo>
                  <a:pt x="6375" y="11832"/>
                </a:moveTo>
                <a:cubicBezTo>
                  <a:pt x="6375" y="12083"/>
                  <a:pt x="6378" y="12328"/>
                  <a:pt x="6400" y="12576"/>
                </a:cubicBezTo>
                <a:cubicBezTo>
                  <a:pt x="6400" y="12617"/>
                  <a:pt x="6400" y="12625"/>
                  <a:pt x="6400" y="126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65160" y="4626000"/>
            <a:ext cx="1741680" cy="44280"/>
          </a:xfrm>
          <a:custGeom>
            <a:avLst/>
            <a:gdLst/>
            <a:ahLst/>
            <a:rect l="l" t="t" r="r" b="b"/>
            <a:pathLst>
              <a:path w="4838" h="125">
                <a:moveTo>
                  <a:pt x="2679" y="12874"/>
                </a:moveTo>
                <a:cubicBezTo>
                  <a:pt x="3126" y="12865"/>
                  <a:pt x="3570" y="12842"/>
                  <a:pt x="4018" y="12849"/>
                </a:cubicBezTo>
                <a:cubicBezTo>
                  <a:pt x="5045" y="12865"/>
                  <a:pt x="6069" y="12888"/>
                  <a:pt x="7094" y="12948"/>
                </a:cubicBezTo>
                <a:cubicBezTo>
                  <a:pt x="7342" y="12967"/>
                  <a:pt x="7375" y="12976"/>
                  <a:pt x="7516" y="129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0040" y="3081240"/>
            <a:ext cx="2697120" cy="71640"/>
          </a:xfrm>
          <a:custGeom>
            <a:avLst/>
            <a:gdLst/>
            <a:ahLst/>
            <a:rect l="l" t="t" r="r" b="b"/>
            <a:pathLst>
              <a:path w="7492" h="199">
                <a:moveTo>
                  <a:pt x="7888" y="8607"/>
                </a:moveTo>
                <a:cubicBezTo>
                  <a:pt x="8126" y="8588"/>
                  <a:pt x="8367" y="8565"/>
                  <a:pt x="8607" y="8558"/>
                </a:cubicBezTo>
                <a:cubicBezTo>
                  <a:pt x="8952" y="8548"/>
                  <a:pt x="9305" y="8557"/>
                  <a:pt x="9649" y="8582"/>
                </a:cubicBezTo>
                <a:cubicBezTo>
                  <a:pt x="9874" y="8598"/>
                  <a:pt x="10071" y="8591"/>
                  <a:pt x="10294" y="8582"/>
                </a:cubicBezTo>
                <a:cubicBezTo>
                  <a:pt x="10441" y="8576"/>
                  <a:pt x="10596" y="8588"/>
                  <a:pt x="10740" y="8607"/>
                </a:cubicBezTo>
                <a:cubicBezTo>
                  <a:pt x="10943" y="8634"/>
                  <a:pt x="11132" y="8641"/>
                  <a:pt x="11336" y="8657"/>
                </a:cubicBezTo>
                <a:cubicBezTo>
                  <a:pt x="11602" y="8678"/>
                  <a:pt x="11863" y="8675"/>
                  <a:pt x="12129" y="8682"/>
                </a:cubicBezTo>
                <a:cubicBezTo>
                  <a:pt x="12412" y="8689"/>
                  <a:pt x="12691" y="8693"/>
                  <a:pt x="12973" y="8706"/>
                </a:cubicBezTo>
                <a:cubicBezTo>
                  <a:pt x="13189" y="8716"/>
                  <a:pt x="13401" y="8731"/>
                  <a:pt x="13618" y="8731"/>
                </a:cubicBezTo>
                <a:cubicBezTo>
                  <a:pt x="13860" y="8731"/>
                  <a:pt x="14096" y="8753"/>
                  <a:pt x="14337" y="8756"/>
                </a:cubicBezTo>
                <a:cubicBezTo>
                  <a:pt x="14684" y="8760"/>
                  <a:pt x="15032" y="8756"/>
                  <a:pt x="15379" y="87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19160" y="5143680"/>
            <a:ext cx="3537000" cy="1187280"/>
          </a:xfrm>
          <a:custGeom>
            <a:avLst/>
            <a:gdLst/>
            <a:ahLst/>
            <a:rect l="l" t="t" r="r" b="b"/>
            <a:pathLst>
              <a:path w="9824" h="3300">
                <a:moveTo>
                  <a:pt x="6648" y="16966"/>
                </a:moveTo>
                <a:cubicBezTo>
                  <a:pt x="8424" y="17422"/>
                  <a:pt x="10206" y="17452"/>
                  <a:pt x="12030" y="17363"/>
                </a:cubicBezTo>
                <a:cubicBezTo>
                  <a:pt x="12943" y="17318"/>
                  <a:pt x="14234" y="17334"/>
                  <a:pt x="14982" y="16694"/>
                </a:cubicBezTo>
                <a:cubicBezTo>
                  <a:pt x="15040" y="16586"/>
                  <a:pt x="15098" y="16479"/>
                  <a:pt x="15156" y="16371"/>
                </a:cubicBezTo>
                <a:cubicBezTo>
                  <a:pt x="14938" y="15664"/>
                  <a:pt x="14468" y="15365"/>
                  <a:pt x="13767" y="15056"/>
                </a:cubicBezTo>
                <a:cubicBezTo>
                  <a:pt x="12514" y="14504"/>
                  <a:pt x="11183" y="14295"/>
                  <a:pt x="9823" y="14288"/>
                </a:cubicBezTo>
                <a:cubicBezTo>
                  <a:pt x="8612" y="14282"/>
                  <a:pt x="7187" y="14444"/>
                  <a:pt x="6152" y="15131"/>
                </a:cubicBezTo>
                <a:cubicBezTo>
                  <a:pt x="5616" y="15622"/>
                  <a:pt x="5449" y="15730"/>
                  <a:pt x="5333" y="16197"/>
                </a:cubicBezTo>
                <a:cubicBezTo>
                  <a:pt x="6020" y="17132"/>
                  <a:pt x="6916" y="17244"/>
                  <a:pt x="8037" y="175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us, Diameter, Circumference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20:28:20Z</dcterms:created>
  <dc:creator>demcgra</dc:creator>
  <dc:description/>
  <dc:language>en-US</dc:language>
  <cp:lastModifiedBy>demcgra</cp:lastModifiedBy>
  <dcterms:modified xsi:type="dcterms:W3CDTF">2012-02-07T20:16:09Z</dcterms:modified>
  <cp:revision>2</cp:revision>
  <dc:subject/>
  <dc:title>Feb 7 Warm-up:   MSA Day 2 Worksheet</dc:title>
</cp:coreProperties>
</file>